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294-0B2C-4A7D-B440-7B3D6D9D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539-4C64-4E40-A00C-408EE697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CC0-FFC9-4FD1-BC15-7B080D82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1B0-F968-4AC1-A68B-34901ABD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6C8A-D1CE-4D62-B996-BFF40BD4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ECCA-C965-460D-9874-B29A3D32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4DE7-A146-4D27-842F-58861A3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59F4-5826-445E-834A-BF86B7D9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9F02-D9A0-48E9-ABF7-BB16DF3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A732-6617-4A6D-B9D4-27CE58C9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032B-733D-4BB2-9FEC-ACBEC180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3CC-C15F-4164-99C6-60377B5E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BAEF-3322-452E-906E-A09048B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5CAA-9227-486F-AF0D-971DA01B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E8F6-82BF-4B82-8F7F-006B2F83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6412-B279-4D67-B230-2262DF12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2AE2-976E-4133-92D0-4EB41A88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9C7-C9A3-4738-899C-2DCF14D4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C78-BB9E-478B-985A-C081FC2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6AF-7BF1-41A6-B6A9-913BA8BC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A5B-C385-4C43-A7A7-4A56DAB0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6DC-EC4C-41A7-B110-9F5CF5D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6F2-C2C2-413D-917C-C7F28BA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C74-83FC-4F32-A246-1483A4F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49DA-DBAE-475C-875C-49303B29C5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E92F-5089-4CBA-87D3-BB48CBCBF1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3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istributed transaction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formation held by coordinators of 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54040" y="2233440"/>
            <a:ext cx="8354880" cy="2522880"/>
            <a:chOff x="554040" y="2233440"/>
            <a:chExt cx="8354880" cy="2522880"/>
          </a:xfrm>
        </p:grpSpPr>
        <p:sp>
          <p:nvSpPr>
            <p:cNvPr id="488" name=""/>
            <p:cNvSpPr/>
            <p:nvPr/>
          </p:nvSpPr>
          <p:spPr>
            <a:xfrm>
              <a:off x="773640" y="2347920"/>
              <a:ext cx="1451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ordinator of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3280" y="2641680"/>
              <a:ext cx="109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36560" y="2347920"/>
              <a:ext cx="535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hil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37280" y="2641680"/>
              <a:ext cx="1189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44760" y="2347920"/>
              <a:ext cx="1098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18200" y="2347920"/>
              <a:ext cx="1123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Provision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17840" y="2641680"/>
              <a:ext cx="106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ommit li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44960" y="2347920"/>
              <a:ext cx="904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bort li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3280" y="2954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23320" y="29541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4640" y="3032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92960" y="2954160"/>
              <a:ext cx="24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, 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54320" y="3032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45120" y="2954160"/>
              <a:ext cx="32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204600" y="29541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26280" y="3032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76040" y="2954160"/>
              <a:ext cx="24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, 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38480" y="30322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31720" y="29541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54480" y="30322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00000" y="2954160"/>
              <a:ext cx="24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, 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61360" y="30322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97400" y="3247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37440" y="33256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23320" y="3247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45720" y="33256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91600" y="3247920"/>
              <a:ext cx="24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, 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53680" y="33256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45120" y="3247920"/>
              <a:ext cx="32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04600" y="3247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26280" y="33256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76040" y="3247920"/>
              <a:ext cx="24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, 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38480" y="33256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31720" y="3247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54480" y="332568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7400" y="35416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37440" y="36194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23320" y="35416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5720" y="36194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91600" y="3541680"/>
              <a:ext cx="24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, 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53680" y="36194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44760" y="3541680"/>
              <a:ext cx="118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no (aborte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31720" y="35416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53400" y="36194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7400" y="3835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45000" y="39132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44760" y="3835440"/>
              <a:ext cx="118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no (aborte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31720" y="3835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54480" y="39132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740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45000" y="42069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64960" y="4129200"/>
              <a:ext cx="24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, 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54400" y="42069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924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6840" y="42069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96840" y="4129200"/>
              <a:ext cx="73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but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80560" y="41004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28160" y="41781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4600" y="4129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7360" y="42069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72880" y="4129200"/>
              <a:ext cx="244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, 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35320" y="42069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7400" y="4429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45000" y="45068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1680" y="4429080"/>
              <a:ext cx="184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no (parent aborte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42680" y="44290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New York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89920" y="45068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New York"/>
                </a:rPr>
                <a:t>2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4040" y="2233440"/>
              <a:ext cx="83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4040" y="2967120"/>
              <a:ext cx="83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4040" y="4756320"/>
              <a:ext cx="83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10</a:t>
            </a:r>
            <a:br>
              <a:rPr sz="2000"/>
            </a:b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canCommi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?  for hierarchic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9120" y="1978200"/>
            <a:ext cx="861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nCommit?(trans, subTrans) -&gt;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a coordinator to ask coordinator of child subtransaction whether it can commit a sub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b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 first argum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transaction identifier of top-level transaction. Participant replies with its vo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10</a:t>
            </a:r>
            <a:br>
              <a:rPr sz="2000"/>
            </a:b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canCommi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? for flat two-phase commit protoco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1360" y="2536920"/>
            <a:ext cx="83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anCommit?(trans, abortList) -&gt;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from coordinator to participant to ask whether it can commit a transaction. Participant replies with its vo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leavings of transaction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54040" y="1838160"/>
            <a:ext cx="8643960" cy="3233880"/>
            <a:chOff x="554040" y="1838160"/>
            <a:chExt cx="8643960" cy="3233880"/>
          </a:xfrm>
        </p:grpSpPr>
        <p:sp>
          <p:nvSpPr>
            <p:cNvPr id="564" name=""/>
            <p:cNvSpPr/>
            <p:nvPr/>
          </p:nvSpPr>
          <p:spPr>
            <a:xfrm>
              <a:off x="1757520" y="1871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32120" y="1871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30840" y="18712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9880" y="1838160"/>
              <a:ext cx="2854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46640" y="1838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68600" y="1838160"/>
              <a:ext cx="2854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45360" y="1838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67320" y="1838160"/>
              <a:ext cx="28306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46640" y="1860480"/>
              <a:ext cx="1440" cy="228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45360" y="1860480"/>
              <a:ext cx="1440" cy="228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6240" y="2282760"/>
              <a:ext cx="121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.deposit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73920" y="2255760"/>
              <a:ext cx="45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54160" y="2255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880" y="2111040"/>
              <a:ext cx="18493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41520" y="2111040"/>
              <a:ext cx="18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65280" y="2111040"/>
              <a:ext cx="9590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46640" y="2111040"/>
              <a:ext cx="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68600" y="2111040"/>
              <a:ext cx="18496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40240" y="2111040"/>
              <a:ext cx="18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64000" y="2111040"/>
              <a:ext cx="9590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45360" y="2111040"/>
              <a:ext cx="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67320" y="2111040"/>
              <a:ext cx="18273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17000" y="2111040"/>
              <a:ext cx="14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38960" y="2111040"/>
              <a:ext cx="9590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41520" y="2134800"/>
              <a:ext cx="237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46640" y="2134800"/>
              <a:ext cx="1440" cy="365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40240" y="2134800"/>
              <a:ext cx="237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45360" y="2134800"/>
              <a:ext cx="1440" cy="365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17000" y="2134800"/>
              <a:ext cx="219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61200" y="2670120"/>
              <a:ext cx="121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.deposit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72640" y="2644560"/>
              <a:ext cx="45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52880" y="2644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2522160"/>
              <a:ext cx="2376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446640" y="2522160"/>
              <a:ext cx="1440" cy="365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40240" y="2522160"/>
              <a:ext cx="2376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45360" y="2522160"/>
              <a:ext cx="1440" cy="365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17000" y="2522160"/>
              <a:ext cx="2196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6240" y="3058920"/>
              <a:ext cx="121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.deposit(2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73920" y="3031920"/>
              <a:ext cx="45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53800" y="3031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72640" y="296208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26080" y="2962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41520" y="2911320"/>
              <a:ext cx="237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46640" y="2911320"/>
              <a:ext cx="1440" cy="363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40240" y="2911320"/>
              <a:ext cx="237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45360" y="2911320"/>
              <a:ext cx="1440" cy="3636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17000" y="2911320"/>
              <a:ext cx="219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473920" y="333180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27000" y="3331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41520" y="3298680"/>
              <a:ext cx="2376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46640" y="3298680"/>
              <a:ext cx="1440" cy="250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40240" y="3298680"/>
              <a:ext cx="2376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45360" y="3298680"/>
              <a:ext cx="1440" cy="250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17000" y="3298680"/>
              <a:ext cx="2196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59560" y="3633480"/>
              <a:ext cx="120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.deposit(3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49040" y="3606480"/>
              <a:ext cx="45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729280" y="36064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41520" y="3571560"/>
              <a:ext cx="2376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46640" y="3571560"/>
              <a:ext cx="1440" cy="365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0240" y="3571560"/>
              <a:ext cx="2376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45360" y="3571560"/>
              <a:ext cx="1440" cy="3654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7000" y="3484440"/>
              <a:ext cx="2196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6600" y="4020840"/>
              <a:ext cx="1418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.withdraw(3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72840" y="3993840"/>
              <a:ext cx="67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it 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06880" y="3993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49040" y="3924000"/>
              <a:ext cx="22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501040" y="392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41520" y="3873240"/>
              <a:ext cx="237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46640" y="3873240"/>
              <a:ext cx="1440" cy="365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0240" y="3873240"/>
              <a:ext cx="237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5360" y="3873240"/>
              <a:ext cx="1440" cy="365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17000" y="3873240"/>
              <a:ext cx="219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61200" y="4408200"/>
              <a:ext cx="140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.withdraw(2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1200" y="438120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it a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73640" y="4381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41520" y="4260600"/>
              <a:ext cx="237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46640" y="4260600"/>
              <a:ext cx="1440" cy="365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40240" y="4260600"/>
              <a:ext cx="237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45360" y="4260600"/>
              <a:ext cx="1440" cy="365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217000" y="4260600"/>
              <a:ext cx="2196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60280" y="4797360"/>
              <a:ext cx="1418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.withdraw(2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47960" y="4770360"/>
              <a:ext cx="67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it 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980200" y="4770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41520" y="4647960"/>
              <a:ext cx="2376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46640" y="4647960"/>
              <a:ext cx="1440" cy="365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40240" y="4647960"/>
              <a:ext cx="2376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45360" y="4647960"/>
              <a:ext cx="1440" cy="365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17000" y="4647960"/>
              <a:ext cx="2196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4040" y="5060880"/>
              <a:ext cx="864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ed deadlo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98400" y="1682640"/>
            <a:ext cx="8507520" cy="4254480"/>
            <a:chOff x="698400" y="1682640"/>
            <a:chExt cx="8507520" cy="4254480"/>
          </a:xfrm>
        </p:grpSpPr>
        <p:sp>
          <p:nvSpPr>
            <p:cNvPr id="655" name=""/>
            <p:cNvSpPr/>
            <p:nvPr/>
          </p:nvSpPr>
          <p:spPr>
            <a:xfrm>
              <a:off x="698400" y="2571840"/>
              <a:ext cx="1193760" cy="1108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086280" y="4830840"/>
              <a:ext cx="1193760" cy="1106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49720" y="2550960"/>
              <a:ext cx="1193760" cy="1106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58680" y="2768760"/>
              <a:ext cx="195480" cy="303120"/>
            </a:xfrm>
            <a:custGeom>
              <a:avLst/>
              <a:gdLst>
                <a:gd name="textAreaLeft" fmla="*/ 27000 w 195480"/>
                <a:gd name="textAreaRight" fmla="*/ 168480 w 195480"/>
                <a:gd name="textAreaTop" fmla="*/ 27000 h 303120"/>
                <a:gd name="textAreaBottom" fmla="*/ 276120 h 303120"/>
              </a:gdLst>
              <a:ahLst/>
              <a:rect l="textAreaLeft" t="textAreaTop" r="textAreaRight" b="textAreaBottom"/>
              <a:pathLst>
                <a:path w="21600" h="33472">
                  <a:moveTo>
                    <a:pt x="10185" y="0"/>
                  </a:moveTo>
                  <a:arcTo wR="10185" hR="10185" stAng="16200000" swAng="-5400000"/>
                  <a:lnTo>
                    <a:pt x="0" y="23287"/>
                  </a:lnTo>
                  <a:arcTo wR="10185" hR="10185" stAng="10800000" swAng="-5400000"/>
                  <a:lnTo>
                    <a:pt x="11415" y="33472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58680" y="2768760"/>
              <a:ext cx="217800" cy="325440"/>
            </a:xfrm>
            <a:custGeom>
              <a:avLst/>
              <a:gdLst>
                <a:gd name="textAreaLeft" fmla="*/ 27000 w 217800"/>
                <a:gd name="textAreaRight" fmla="*/ 190800 w 217800"/>
                <a:gd name="textAreaTop" fmla="*/ 27000 h 325440"/>
                <a:gd name="textAreaBottom" fmla="*/ 298440 h 325440"/>
              </a:gdLst>
              <a:ahLst/>
              <a:rect l="textAreaLeft" t="textAreaTop" r="textAreaRight" b="textAreaBottom"/>
              <a:pathLst>
                <a:path w="21600" h="32257">
                  <a:moveTo>
                    <a:pt x="9145" y="0"/>
                  </a:moveTo>
                  <a:arcTo wR="9145" hR="9145" stAng="16200000" swAng="-5400000"/>
                  <a:lnTo>
                    <a:pt x="0" y="23112"/>
                  </a:lnTo>
                  <a:arcTo wR="9145" hR="9145" stAng="10800000" swAng="-5400000"/>
                  <a:lnTo>
                    <a:pt x="12455" y="32257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79560" y="2941560"/>
              <a:ext cx="17460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79560" y="2941560"/>
              <a:ext cx="196920" cy="15264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58680" y="2768760"/>
              <a:ext cx="217800" cy="325440"/>
            </a:xfrm>
            <a:custGeom>
              <a:avLst/>
              <a:gdLst>
                <a:gd name="textAreaLeft" fmla="*/ 27000 w 217800"/>
                <a:gd name="textAreaRight" fmla="*/ 190800 w 217800"/>
                <a:gd name="textAreaTop" fmla="*/ 27000 h 325440"/>
                <a:gd name="textAreaBottom" fmla="*/ 298440 h 325440"/>
              </a:gdLst>
              <a:ahLst/>
              <a:rect l="textAreaLeft" t="textAreaTop" r="textAreaRight" b="textAreaBottom"/>
              <a:pathLst>
                <a:path w="21600" h="32257">
                  <a:moveTo>
                    <a:pt x="9145" y="0"/>
                  </a:moveTo>
                  <a:arcTo wR="9145" hR="9145" stAng="16200000" swAng="-5400000"/>
                  <a:lnTo>
                    <a:pt x="0" y="23112"/>
                  </a:lnTo>
                  <a:arcTo wR="9145" hR="9145" stAng="10800000" swAng="-5400000"/>
                  <a:lnTo>
                    <a:pt x="12455" y="32257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58680" y="2919240"/>
              <a:ext cx="195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22440" y="2768760"/>
              <a:ext cx="195120" cy="303120"/>
            </a:xfrm>
            <a:custGeom>
              <a:avLst/>
              <a:gdLst>
                <a:gd name="textAreaLeft" fmla="*/ 26640 w 195120"/>
                <a:gd name="textAreaRight" fmla="*/ 168480 w 195120"/>
                <a:gd name="textAreaTop" fmla="*/ 26640 h 303120"/>
                <a:gd name="textAreaBottom" fmla="*/ 276480 h 303120"/>
              </a:gdLst>
              <a:ahLst/>
              <a:rect l="textAreaLeft" t="textAreaTop" r="textAreaRight" b="textAreaBottom"/>
              <a:pathLst>
                <a:path w="21600" h="33534">
                  <a:moveTo>
                    <a:pt x="10185" y="0"/>
                  </a:moveTo>
                  <a:arcTo wR="10185" hR="10185" stAng="16200000" swAng="-5400000"/>
                  <a:lnTo>
                    <a:pt x="0" y="23349"/>
                  </a:lnTo>
                  <a:arcTo wR="10185" hR="10185" stAng="10800000" swAng="-5400000"/>
                  <a:lnTo>
                    <a:pt x="11415" y="33534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22440" y="2768760"/>
              <a:ext cx="217440" cy="325440"/>
            </a:xfrm>
            <a:custGeom>
              <a:avLst/>
              <a:gdLst>
                <a:gd name="textAreaLeft" fmla="*/ 27000 w 217440"/>
                <a:gd name="textAreaRight" fmla="*/ 190440 w 217440"/>
                <a:gd name="textAreaTop" fmla="*/ 27000 h 325440"/>
                <a:gd name="textAreaBottom" fmla="*/ 298440 h 325440"/>
              </a:gdLst>
              <a:ahLst/>
              <a:rect l="textAreaLeft" t="textAreaTop" r="textAreaRight" b="textAreaBottom"/>
              <a:pathLst>
                <a:path w="21600" h="32311">
                  <a:moveTo>
                    <a:pt x="9145" y="0"/>
                  </a:moveTo>
                  <a:arcTo wR="9145" hR="9145" stAng="16200000" swAng="-5400000"/>
                  <a:lnTo>
                    <a:pt x="0" y="23166"/>
                  </a:lnTo>
                  <a:arcTo wR="9145" hR="9145" stAng="10800000" swAng="-5400000"/>
                  <a:lnTo>
                    <a:pt x="12455" y="32311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22440" y="2941560"/>
              <a:ext cx="19512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22440" y="2941560"/>
              <a:ext cx="217440" cy="15264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22440" y="2768760"/>
              <a:ext cx="217440" cy="325440"/>
            </a:xfrm>
            <a:custGeom>
              <a:avLst/>
              <a:gdLst>
                <a:gd name="textAreaLeft" fmla="*/ 27000 w 217440"/>
                <a:gd name="textAreaRight" fmla="*/ 190440 w 217440"/>
                <a:gd name="textAreaTop" fmla="*/ 27000 h 325440"/>
                <a:gd name="textAreaBottom" fmla="*/ 298440 h 325440"/>
              </a:gdLst>
              <a:ahLst/>
              <a:rect l="textAreaLeft" t="textAreaTop" r="textAreaRight" b="textAreaBottom"/>
              <a:pathLst>
                <a:path w="21600" h="32311">
                  <a:moveTo>
                    <a:pt x="9145" y="0"/>
                  </a:moveTo>
                  <a:arcTo wR="9145" hR="9145" stAng="16200000" swAng="-5400000"/>
                  <a:lnTo>
                    <a:pt x="0" y="23166"/>
                  </a:lnTo>
                  <a:arcTo wR="9145" hR="9145" stAng="10800000" swAng="-5400000"/>
                  <a:lnTo>
                    <a:pt x="12455" y="32311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22440" y="2919240"/>
              <a:ext cx="1951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75160" y="2746440"/>
              <a:ext cx="195120" cy="282600"/>
            </a:xfrm>
            <a:custGeom>
              <a:avLst/>
              <a:gdLst>
                <a:gd name="textAreaLeft" fmla="*/ 26640 w 195120"/>
                <a:gd name="textAreaRight" fmla="*/ 168480 w 195120"/>
                <a:gd name="textAreaTop" fmla="*/ 26640 h 282600"/>
                <a:gd name="textAreaBottom" fmla="*/ 255960 h 282600"/>
              </a:gdLst>
              <a:ahLst/>
              <a:rect l="textAreaLeft" t="textAreaTop" r="textAreaRight" b="textAreaBottom"/>
              <a:pathLst>
                <a:path w="21600" h="31266">
                  <a:moveTo>
                    <a:pt x="10185" y="0"/>
                  </a:moveTo>
                  <a:arcTo wR="10185" hR="10185" stAng="16200000" swAng="-5400000"/>
                  <a:lnTo>
                    <a:pt x="0" y="21081"/>
                  </a:lnTo>
                  <a:arcTo wR="10185" hR="10185" stAng="10800000" swAng="-5400000"/>
                  <a:lnTo>
                    <a:pt x="11415" y="31266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75160" y="2746440"/>
              <a:ext cx="217440" cy="303120"/>
            </a:xfrm>
            <a:custGeom>
              <a:avLst/>
              <a:gdLst>
                <a:gd name="textAreaLeft" fmla="*/ 27000 w 217440"/>
                <a:gd name="textAreaRight" fmla="*/ 190440 w 217440"/>
                <a:gd name="textAreaTop" fmla="*/ 27000 h 303120"/>
                <a:gd name="textAreaBottom" fmla="*/ 276120 h 303120"/>
              </a:gdLst>
              <a:ahLst/>
              <a:rect l="textAreaLeft" t="textAreaTop" r="textAreaRight" b="textAreaBottom"/>
              <a:pathLst>
                <a:path w="21600" h="30097">
                  <a:moveTo>
                    <a:pt x="9145" y="0"/>
                  </a:moveTo>
                  <a:arcTo wR="9145" hR="9145" stAng="16200000" swAng="-5400000"/>
                  <a:lnTo>
                    <a:pt x="0" y="20952"/>
                  </a:lnTo>
                  <a:arcTo wR="9145" hR="9145" stAng="10800000" swAng="-5400000"/>
                  <a:lnTo>
                    <a:pt x="12455" y="30097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75160" y="2898720"/>
              <a:ext cx="195120" cy="1508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75160" y="2898720"/>
              <a:ext cx="217440" cy="17316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75160" y="2746440"/>
              <a:ext cx="217440" cy="303120"/>
            </a:xfrm>
            <a:custGeom>
              <a:avLst/>
              <a:gdLst>
                <a:gd name="textAreaLeft" fmla="*/ 27000 w 217440"/>
                <a:gd name="textAreaRight" fmla="*/ 190440 w 217440"/>
                <a:gd name="textAreaTop" fmla="*/ 27000 h 303120"/>
                <a:gd name="textAreaBottom" fmla="*/ 276120 h 303120"/>
              </a:gdLst>
              <a:ahLst/>
              <a:rect l="textAreaLeft" t="textAreaTop" r="textAreaRight" b="textAreaBottom"/>
              <a:pathLst>
                <a:path w="21600" h="30097">
                  <a:moveTo>
                    <a:pt x="9145" y="0"/>
                  </a:moveTo>
                  <a:arcTo wR="9145" hR="9145" stAng="16200000" swAng="-5400000"/>
                  <a:lnTo>
                    <a:pt x="0" y="20952"/>
                  </a:lnTo>
                  <a:arcTo wR="9145" hR="9145" stAng="10800000" swAng="-5400000"/>
                  <a:lnTo>
                    <a:pt x="12455" y="30097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75160" y="2898720"/>
              <a:ext cx="1951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64000" y="5264280"/>
              <a:ext cx="195120" cy="282600"/>
            </a:xfrm>
            <a:custGeom>
              <a:avLst/>
              <a:gdLst>
                <a:gd name="textAreaLeft" fmla="*/ 26640 w 195120"/>
                <a:gd name="textAreaRight" fmla="*/ 168480 w 195120"/>
                <a:gd name="textAreaTop" fmla="*/ 26640 h 282600"/>
                <a:gd name="textAreaBottom" fmla="*/ 255960 h 282600"/>
              </a:gdLst>
              <a:ahLst/>
              <a:rect l="textAreaLeft" t="textAreaTop" r="textAreaRight" b="textAreaBottom"/>
              <a:pathLst>
                <a:path w="21600" h="31266">
                  <a:moveTo>
                    <a:pt x="10185" y="0"/>
                  </a:moveTo>
                  <a:arcTo wR="10185" hR="10185" stAng="16200000" swAng="-5400000"/>
                  <a:lnTo>
                    <a:pt x="0" y="21081"/>
                  </a:lnTo>
                  <a:arcTo wR="10185" hR="10185" stAng="10800000" swAng="-5400000"/>
                  <a:lnTo>
                    <a:pt x="11415" y="31266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64000" y="5264280"/>
              <a:ext cx="217440" cy="304560"/>
            </a:xfrm>
            <a:custGeom>
              <a:avLst/>
              <a:gdLst>
                <a:gd name="textAreaLeft" fmla="*/ 27000 w 217440"/>
                <a:gd name="textAreaRight" fmla="*/ 190440 w 217440"/>
                <a:gd name="textAreaTop" fmla="*/ 27000 h 304560"/>
                <a:gd name="textAreaBottom" fmla="*/ 277560 h 304560"/>
              </a:gdLst>
              <a:ahLst/>
              <a:rect l="textAreaLeft" t="textAreaTop" r="textAreaRight" b="textAreaBottom"/>
              <a:pathLst>
                <a:path w="21600" h="30240">
                  <a:moveTo>
                    <a:pt x="9145" y="0"/>
                  </a:moveTo>
                  <a:arcTo wR="9145" hR="9145" stAng="16200000" swAng="-5400000"/>
                  <a:lnTo>
                    <a:pt x="0" y="21095"/>
                  </a:lnTo>
                  <a:arcTo wR="9145" hR="9145" stAng="10800000" swAng="-5400000"/>
                  <a:lnTo>
                    <a:pt x="12455" y="30240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64000" y="5416560"/>
              <a:ext cx="195120" cy="130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64000" y="5416560"/>
              <a:ext cx="217440" cy="15228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64000" y="5264280"/>
              <a:ext cx="217440" cy="304560"/>
            </a:xfrm>
            <a:custGeom>
              <a:avLst/>
              <a:gdLst>
                <a:gd name="textAreaLeft" fmla="*/ 27000 w 217440"/>
                <a:gd name="textAreaRight" fmla="*/ 190440 w 217440"/>
                <a:gd name="textAreaTop" fmla="*/ 27000 h 304560"/>
                <a:gd name="textAreaBottom" fmla="*/ 277560 h 304560"/>
              </a:gdLst>
              <a:ahLst/>
              <a:rect l="textAreaLeft" t="textAreaTop" r="textAreaRight" b="textAreaBottom"/>
              <a:pathLst>
                <a:path w="21600" h="30240">
                  <a:moveTo>
                    <a:pt x="9145" y="0"/>
                  </a:moveTo>
                  <a:arcTo wR="9145" hR="9145" stAng="16200000" swAng="-5400000"/>
                  <a:lnTo>
                    <a:pt x="0" y="21095"/>
                  </a:lnTo>
                  <a:arcTo wR="9145" hR="9145" stAng="10800000" swAng="-5400000"/>
                  <a:lnTo>
                    <a:pt x="12455" y="30240"/>
                  </a:lnTo>
                  <a:arcTo wR="9145" hR="9145" stAng="5400000" swAng="-5400000"/>
                  <a:lnTo>
                    <a:pt x="21600" y="9145"/>
                  </a:lnTo>
                  <a:arcTo wR="9145" hR="9145" stAng="0" swAng="-5400000"/>
                  <a:close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64000" y="5394240"/>
              <a:ext cx="1951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11120" y="282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90760" y="1768320"/>
              <a:ext cx="109440" cy="1303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0" y="41"/>
                  </a:moveTo>
                  <a:lnTo>
                    <a:pt x="0" y="0"/>
                  </a:lnTo>
                  <a:lnTo>
                    <a:pt x="69" y="41"/>
                  </a:lnTo>
                  <a:lnTo>
                    <a:pt x="0" y="8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46160" y="1833480"/>
              <a:ext cx="1344600" cy="912960"/>
            </a:xfrm>
            <a:custGeom>
              <a:avLst/>
              <a:gdLst/>
              <a:ahLst/>
              <a:rect l="l" t="t" r="r" b="b"/>
              <a:pathLst>
                <a:path w="847" h="575">
                  <a:moveTo>
                    <a:pt x="0" y="575"/>
                  </a:moveTo>
                  <a:lnTo>
                    <a:pt x="13" y="479"/>
                  </a:lnTo>
                  <a:lnTo>
                    <a:pt x="54" y="370"/>
                  </a:lnTo>
                  <a:lnTo>
                    <a:pt x="136" y="274"/>
                  </a:lnTo>
                  <a:lnTo>
                    <a:pt x="232" y="192"/>
                  </a:lnTo>
                  <a:lnTo>
                    <a:pt x="506" y="69"/>
                  </a:lnTo>
                  <a:lnTo>
                    <a:pt x="847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36800" y="5351400"/>
              <a:ext cx="109800" cy="13032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69" y="41"/>
                  </a:moveTo>
                  <a:lnTo>
                    <a:pt x="69" y="82"/>
                  </a:lnTo>
                  <a:lnTo>
                    <a:pt x="0" y="41"/>
                  </a:lnTo>
                  <a:lnTo>
                    <a:pt x="69" y="0"/>
                  </a:lnTo>
                  <a:lnTo>
                    <a:pt x="69" y="41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867120" y="4656240"/>
              <a:ext cx="2149560" cy="760320"/>
            </a:xfrm>
            <a:custGeom>
              <a:avLst/>
              <a:gdLst/>
              <a:ahLst/>
              <a:rect l="l" t="t" r="r" b="b"/>
              <a:pathLst>
                <a:path w="1354" h="479">
                  <a:moveTo>
                    <a:pt x="1354" y="0"/>
                  </a:moveTo>
                  <a:lnTo>
                    <a:pt x="1327" y="82"/>
                  </a:lnTo>
                  <a:lnTo>
                    <a:pt x="1259" y="178"/>
                  </a:lnTo>
                  <a:lnTo>
                    <a:pt x="1122" y="260"/>
                  </a:lnTo>
                  <a:lnTo>
                    <a:pt x="958" y="329"/>
                  </a:lnTo>
                  <a:lnTo>
                    <a:pt x="534" y="438"/>
                  </a:lnTo>
                  <a:lnTo>
                    <a:pt x="0" y="47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44800" y="463536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1" y="68"/>
                  </a:moveTo>
                  <a:lnTo>
                    <a:pt x="0" y="82"/>
                  </a:lnTo>
                  <a:lnTo>
                    <a:pt x="13" y="0"/>
                  </a:lnTo>
                  <a:lnTo>
                    <a:pt x="82" y="54"/>
                  </a:lnTo>
                  <a:lnTo>
                    <a:pt x="41" y="68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09960" y="4765680"/>
              <a:ext cx="1411200" cy="628560"/>
            </a:xfrm>
            <a:custGeom>
              <a:avLst/>
              <a:gdLst/>
              <a:ahLst/>
              <a:rect l="l" t="t" r="r" b="b"/>
              <a:pathLst>
                <a:path w="889" h="396">
                  <a:moveTo>
                    <a:pt x="889" y="396"/>
                  </a:moveTo>
                  <a:lnTo>
                    <a:pt x="588" y="369"/>
                  </a:lnTo>
                  <a:lnTo>
                    <a:pt x="328" y="287"/>
                  </a:lnTo>
                  <a:lnTo>
                    <a:pt x="123" y="164"/>
                  </a:lnTo>
                  <a:lnTo>
                    <a:pt x="54" y="82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68720" y="2048040"/>
              <a:ext cx="70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64360" y="40798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81080" y="429732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97960" y="211788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28520" y="381960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81880" y="40370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55840" y="4970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5080" y="4957920"/>
              <a:ext cx="70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90160" y="517356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64400" y="53910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75160" y="259380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1" y="14"/>
                  </a:moveTo>
                  <a:lnTo>
                    <a:pt x="82" y="0"/>
                  </a:lnTo>
                  <a:lnTo>
                    <a:pt x="69" y="82"/>
                  </a:lnTo>
                  <a:lnTo>
                    <a:pt x="0" y="27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7960" y="1855800"/>
              <a:ext cx="1692360" cy="738000"/>
            </a:xfrm>
            <a:custGeom>
              <a:avLst/>
              <a:gdLst/>
              <a:ahLst/>
              <a:rect l="l" t="t" r="r" b="b"/>
              <a:pathLst>
                <a:path w="1066" h="465">
                  <a:moveTo>
                    <a:pt x="0" y="0"/>
                  </a:moveTo>
                  <a:lnTo>
                    <a:pt x="355" y="27"/>
                  </a:lnTo>
                  <a:lnTo>
                    <a:pt x="683" y="123"/>
                  </a:lnTo>
                  <a:lnTo>
                    <a:pt x="930" y="274"/>
                  </a:lnTo>
                  <a:lnTo>
                    <a:pt x="1012" y="369"/>
                  </a:lnTo>
                  <a:lnTo>
                    <a:pt x="1066" y="46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08680" y="4265640"/>
              <a:ext cx="13032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41" y="0"/>
                  </a:moveTo>
                  <a:lnTo>
                    <a:pt x="82" y="0"/>
                  </a:lnTo>
                  <a:lnTo>
                    <a:pt x="55" y="69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14920" y="2919240"/>
              <a:ext cx="1258920" cy="1346400"/>
            </a:xfrm>
            <a:custGeom>
              <a:avLst/>
              <a:gdLst/>
              <a:ahLst/>
              <a:rect l="l" t="t" r="r" b="b"/>
              <a:pathLst>
                <a:path w="793" h="848">
                  <a:moveTo>
                    <a:pt x="0" y="0"/>
                  </a:moveTo>
                  <a:lnTo>
                    <a:pt x="150" y="14"/>
                  </a:lnTo>
                  <a:lnTo>
                    <a:pt x="287" y="69"/>
                  </a:lnTo>
                  <a:lnTo>
                    <a:pt x="410" y="137"/>
                  </a:lnTo>
                  <a:lnTo>
                    <a:pt x="533" y="246"/>
                  </a:lnTo>
                  <a:lnTo>
                    <a:pt x="629" y="370"/>
                  </a:lnTo>
                  <a:lnTo>
                    <a:pt x="711" y="506"/>
                  </a:lnTo>
                  <a:lnTo>
                    <a:pt x="766" y="670"/>
                  </a:lnTo>
                  <a:lnTo>
                    <a:pt x="793" y="848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01880" y="3179880"/>
              <a:ext cx="12996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41" y="69"/>
                  </a:moveTo>
                  <a:lnTo>
                    <a:pt x="0" y="69"/>
                  </a:lnTo>
                  <a:lnTo>
                    <a:pt x="41" y="0"/>
                  </a:lnTo>
                  <a:lnTo>
                    <a:pt x="82" y="69"/>
                  </a:lnTo>
                  <a:lnTo>
                    <a:pt x="41" y="69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6680" y="3309840"/>
              <a:ext cx="890640" cy="1150920"/>
            </a:xfrm>
            <a:custGeom>
              <a:avLst/>
              <a:gdLst/>
              <a:ahLst/>
              <a:rect l="l" t="t" r="r" b="b"/>
              <a:pathLst>
                <a:path w="561" h="725">
                  <a:moveTo>
                    <a:pt x="561" y="725"/>
                  </a:moveTo>
                  <a:lnTo>
                    <a:pt x="451" y="712"/>
                  </a:lnTo>
                  <a:lnTo>
                    <a:pt x="356" y="671"/>
                  </a:lnTo>
                  <a:lnTo>
                    <a:pt x="274" y="616"/>
                  </a:lnTo>
                  <a:lnTo>
                    <a:pt x="192" y="520"/>
                  </a:lnTo>
                  <a:lnTo>
                    <a:pt x="69" y="288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13560" y="450540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0" y="27"/>
                  </a:moveTo>
                  <a:lnTo>
                    <a:pt x="0" y="0"/>
                  </a:lnTo>
                  <a:lnTo>
                    <a:pt x="68" y="27"/>
                  </a:lnTo>
                  <a:lnTo>
                    <a:pt x="0" y="6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09560" y="3049560"/>
              <a:ext cx="4104000" cy="1498680"/>
            </a:xfrm>
            <a:custGeom>
              <a:avLst/>
              <a:gdLst/>
              <a:ahLst/>
              <a:rect l="l" t="t" r="r" b="b"/>
              <a:pathLst>
                <a:path w="2585" h="944">
                  <a:moveTo>
                    <a:pt x="2585" y="944"/>
                  </a:moveTo>
                  <a:lnTo>
                    <a:pt x="2065" y="930"/>
                  </a:lnTo>
                  <a:lnTo>
                    <a:pt x="1573" y="876"/>
                  </a:lnTo>
                  <a:lnTo>
                    <a:pt x="1135" y="780"/>
                  </a:lnTo>
                  <a:lnTo>
                    <a:pt x="752" y="670"/>
                  </a:lnTo>
                  <a:lnTo>
                    <a:pt x="438" y="520"/>
                  </a:lnTo>
                  <a:lnTo>
                    <a:pt x="205" y="370"/>
                  </a:lnTo>
                  <a:lnTo>
                    <a:pt x="55" y="192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90800" y="342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27360" y="5708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39480" y="34513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49720" y="3994200"/>
              <a:ext cx="60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21080" y="1682640"/>
              <a:ext cx="2826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21080" y="1682640"/>
              <a:ext cx="304560" cy="303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85880" y="17431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43520" y="4395960"/>
              <a:ext cx="28260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43520" y="4395960"/>
              <a:ext cx="303120" cy="282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29200" y="4435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914480" y="4352760"/>
              <a:ext cx="28116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14480" y="4352760"/>
              <a:ext cx="303120" cy="282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0680" y="4414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51240" y="2863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836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7560" y="4245120"/>
              <a:ext cx="118800" cy="9828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38" y="0"/>
                  </a:moveTo>
                  <a:lnTo>
                    <a:pt x="75" y="0"/>
                  </a:lnTo>
                  <a:lnTo>
                    <a:pt x="38" y="62"/>
                  </a:lnTo>
                  <a:lnTo>
                    <a:pt x="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55080" y="1986120"/>
              <a:ext cx="912600" cy="2238120"/>
            </a:xfrm>
            <a:custGeom>
              <a:avLst/>
              <a:gdLst/>
              <a:ahLst/>
              <a:rect l="l" t="t" r="r" b="b"/>
              <a:pathLst>
                <a:path w="575" h="1410">
                  <a:moveTo>
                    <a:pt x="0" y="0"/>
                  </a:moveTo>
                  <a:lnTo>
                    <a:pt x="113" y="25"/>
                  </a:lnTo>
                  <a:lnTo>
                    <a:pt x="213" y="112"/>
                  </a:lnTo>
                  <a:lnTo>
                    <a:pt x="312" y="237"/>
                  </a:lnTo>
                  <a:lnTo>
                    <a:pt x="400" y="412"/>
                  </a:lnTo>
                  <a:lnTo>
                    <a:pt x="525" y="861"/>
                  </a:lnTo>
                  <a:lnTo>
                    <a:pt x="575" y="14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99400" y="19065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12" y="37"/>
                  </a:moveTo>
                  <a:lnTo>
                    <a:pt x="0" y="0"/>
                  </a:lnTo>
                  <a:lnTo>
                    <a:pt x="75" y="25"/>
                  </a:lnTo>
                  <a:lnTo>
                    <a:pt x="12" y="75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66000" y="1965240"/>
              <a:ext cx="833400" cy="1447920"/>
            </a:xfrm>
            <a:custGeom>
              <a:avLst/>
              <a:gdLst/>
              <a:ahLst/>
              <a:rect l="l" t="t" r="r" b="b"/>
              <a:pathLst>
                <a:path w="525" h="912">
                  <a:moveTo>
                    <a:pt x="0" y="912"/>
                  </a:moveTo>
                  <a:lnTo>
                    <a:pt x="38" y="600"/>
                  </a:lnTo>
                  <a:lnTo>
                    <a:pt x="150" y="312"/>
                  </a:lnTo>
                  <a:lnTo>
                    <a:pt x="225" y="200"/>
                  </a:lnTo>
                  <a:lnTo>
                    <a:pt x="312" y="113"/>
                  </a:lnTo>
                  <a:lnTo>
                    <a:pt x="412" y="38"/>
                  </a:lnTo>
                  <a:lnTo>
                    <a:pt x="52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46920" y="3749760"/>
              <a:ext cx="119160" cy="9828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37" y="50"/>
                  </a:moveTo>
                  <a:lnTo>
                    <a:pt x="0" y="62"/>
                  </a:lnTo>
                  <a:lnTo>
                    <a:pt x="12" y="0"/>
                  </a:lnTo>
                  <a:lnTo>
                    <a:pt x="75" y="37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05600" y="3848040"/>
              <a:ext cx="1922400" cy="635040"/>
            </a:xfrm>
            <a:custGeom>
              <a:avLst/>
              <a:gdLst/>
              <a:ahLst/>
              <a:rect l="l" t="t" r="r" b="b"/>
              <a:pathLst>
                <a:path w="1211" h="400">
                  <a:moveTo>
                    <a:pt x="1211" y="400"/>
                  </a:moveTo>
                  <a:lnTo>
                    <a:pt x="799" y="375"/>
                  </a:lnTo>
                  <a:lnTo>
                    <a:pt x="437" y="287"/>
                  </a:lnTo>
                  <a:lnTo>
                    <a:pt x="163" y="162"/>
                  </a:lnTo>
                  <a:lnTo>
                    <a:pt x="63" y="8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18560" y="1866960"/>
              <a:ext cx="2570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18560" y="1866960"/>
              <a:ext cx="276120" cy="27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67360" y="3452760"/>
              <a:ext cx="25740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67360" y="3452760"/>
              <a:ext cx="277920" cy="27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928000" y="4343400"/>
              <a:ext cx="2588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928000" y="4343400"/>
              <a:ext cx="277920" cy="27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81560" y="190332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959160" y="34894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994600" y="43797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93720" y="123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24600" y="123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and global wait-for graph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8280" y="2095560"/>
            <a:ext cx="8732880" cy="2670120"/>
            <a:chOff x="548280" y="2095560"/>
            <a:chExt cx="8732880" cy="2670120"/>
          </a:xfrm>
        </p:grpSpPr>
        <p:sp>
          <p:nvSpPr>
            <p:cNvPr id="741" name=""/>
            <p:cNvSpPr/>
            <p:nvPr/>
          </p:nvSpPr>
          <p:spPr>
            <a:xfrm>
              <a:off x="687240" y="2739960"/>
              <a:ext cx="2144880" cy="2025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62160" y="3176640"/>
              <a:ext cx="555480" cy="51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23600" y="43480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080" y="3211560"/>
              <a:ext cx="555840" cy="51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79200" y="326700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44640" y="3375000"/>
              <a:ext cx="277920" cy="11916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0" y="25"/>
                  </a:moveTo>
                  <a:lnTo>
                    <a:pt x="0" y="0"/>
                  </a:lnTo>
                  <a:lnTo>
                    <a:pt x="175" y="25"/>
                  </a:lnTo>
                  <a:lnTo>
                    <a:pt x="0" y="7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52520" y="3414600"/>
              <a:ext cx="5176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09400" y="326700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35440" y="2739960"/>
              <a:ext cx="2131920" cy="2014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41280" y="43401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95960" y="3174840"/>
              <a:ext cx="554040" cy="51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54600" y="3174840"/>
              <a:ext cx="552240" cy="51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30280" y="32637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19840" y="3371760"/>
              <a:ext cx="236520" cy="119160"/>
            </a:xfrm>
            <a:custGeom>
              <a:avLst/>
              <a:gdLst/>
              <a:ahLst/>
              <a:rect l="l" t="t" r="r" b="b"/>
              <a:pathLst>
                <a:path w="149" h="75">
                  <a:moveTo>
                    <a:pt x="0" y="25"/>
                  </a:moveTo>
                  <a:lnTo>
                    <a:pt x="0" y="0"/>
                  </a:lnTo>
                  <a:lnTo>
                    <a:pt x="149" y="25"/>
                  </a:lnTo>
                  <a:lnTo>
                    <a:pt x="0" y="7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92800" y="3411360"/>
              <a:ext cx="512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82800" y="326376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389800" y="3965400"/>
              <a:ext cx="554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9800" y="3965400"/>
              <a:ext cx="594000" cy="594000"/>
            </a:xfrm>
            <a:prstGeom prst="rect">
              <a:avLst/>
            </a:prstGeom>
            <a:noFill/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03960" y="3965400"/>
              <a:ext cx="554040" cy="55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03960" y="3965400"/>
              <a:ext cx="594000" cy="594000"/>
            </a:xfrm>
            <a:prstGeom prst="rect">
              <a:avLst/>
            </a:prstGeom>
            <a:noFill/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07400" y="2739960"/>
              <a:ext cx="2133360" cy="2016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03960" y="3965400"/>
              <a:ext cx="594000" cy="59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389800" y="3965400"/>
              <a:ext cx="594000" cy="59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58000" y="2938320"/>
              <a:ext cx="552600" cy="55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34040" y="30272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59640" y="3689280"/>
              <a:ext cx="198360" cy="236520"/>
            </a:xfrm>
            <a:custGeom>
              <a:avLst/>
              <a:gdLst/>
              <a:ahLst/>
              <a:rect l="l" t="t" r="r" b="b"/>
              <a:pathLst>
                <a:path w="125" h="149">
                  <a:moveTo>
                    <a:pt x="100" y="25"/>
                  </a:moveTo>
                  <a:lnTo>
                    <a:pt x="125" y="50"/>
                  </a:lnTo>
                  <a:lnTo>
                    <a:pt x="0" y="149"/>
                  </a:lnTo>
                  <a:lnTo>
                    <a:pt x="50" y="0"/>
                  </a:lnTo>
                  <a:lnTo>
                    <a:pt x="100" y="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692840" y="3476520"/>
              <a:ext cx="236520" cy="23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93240" y="3490920"/>
              <a:ext cx="196560" cy="237960"/>
            </a:xfrm>
            <a:custGeom>
              <a:avLst/>
              <a:gdLst/>
              <a:ahLst/>
              <a:rect l="l" t="t" r="r" b="b"/>
              <a:pathLst>
                <a:path w="124" h="150">
                  <a:moveTo>
                    <a:pt x="99" y="125"/>
                  </a:moveTo>
                  <a:lnTo>
                    <a:pt x="74" y="150"/>
                  </a:lnTo>
                  <a:lnTo>
                    <a:pt x="0" y="0"/>
                  </a:lnTo>
                  <a:lnTo>
                    <a:pt x="124" y="100"/>
                  </a:lnTo>
                  <a:lnTo>
                    <a:pt x="99" y="125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8375400" y="3703320"/>
              <a:ext cx="2379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1840" y="40957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586360" y="405612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280" y="2095560"/>
              <a:ext cx="205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wait-for grap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82240" y="209556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wait-for grap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845040" y="2095560"/>
              <a:ext cx="24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deadlock det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bes transmitted to detect deadloc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81840" y="1255680"/>
            <a:ext cx="8227800" cy="4718880"/>
            <a:chOff x="681840" y="1255680"/>
            <a:chExt cx="8227800" cy="4718880"/>
          </a:xfrm>
        </p:grpSpPr>
        <p:sp>
          <p:nvSpPr>
            <p:cNvPr id="777" name=""/>
            <p:cNvSpPr/>
            <p:nvPr/>
          </p:nvSpPr>
          <p:spPr>
            <a:xfrm>
              <a:off x="7591320" y="2097000"/>
              <a:ext cx="1077840" cy="10270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75040" y="4913280"/>
              <a:ext cx="1052640" cy="1025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70080" y="1887480"/>
              <a:ext cx="1077840" cy="10256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65360" y="2097000"/>
              <a:ext cx="236520" cy="36828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8280"/>
                <a:gd name="textAreaBottom" fmla="*/ 335880 h 368280"/>
              </a:gdLst>
              <a:ahLst/>
              <a:rect l="textAreaLeft" t="textAreaTop" r="textAreaRight" b="textAreaBottom"/>
              <a:pathLst>
                <a:path w="21600" h="33615">
                  <a:moveTo>
                    <a:pt x="10148" y="0"/>
                  </a:moveTo>
                  <a:arcTo wR="10148" hR="10148" stAng="16200000" swAng="-5400000"/>
                  <a:lnTo>
                    <a:pt x="0" y="23467"/>
                  </a:lnTo>
                  <a:arcTo wR="10148" hR="10148" stAng="10800000" swAng="-5400000"/>
                  <a:lnTo>
                    <a:pt x="11452" y="33615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65360" y="2097000"/>
              <a:ext cx="262080" cy="395280"/>
            </a:xfrm>
            <a:custGeom>
              <a:avLst/>
              <a:gdLst>
                <a:gd name="textAreaLeft" fmla="*/ 32400 w 262080"/>
                <a:gd name="textAreaRight" fmla="*/ 229680 w 262080"/>
                <a:gd name="textAreaTop" fmla="*/ 32400 h 395280"/>
                <a:gd name="textAreaBottom" fmla="*/ 362880 h 395280"/>
              </a:gdLst>
              <a:ahLst/>
              <a:rect l="textAreaLeft" t="textAreaTop" r="textAreaRight" b="textAreaBottom"/>
              <a:pathLst>
                <a:path w="21600" h="32563">
                  <a:moveTo>
                    <a:pt x="9164" y="0"/>
                  </a:moveTo>
                  <a:arcTo wR="9164" hR="9164" stAng="16200000" swAng="-5400000"/>
                  <a:lnTo>
                    <a:pt x="0" y="23399"/>
                  </a:lnTo>
                  <a:arcTo wR="9164" hR="9164" stAng="10800000" swAng="-5400000"/>
                  <a:lnTo>
                    <a:pt x="12436" y="32563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565360" y="2281320"/>
              <a:ext cx="236520" cy="183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65360" y="2281320"/>
              <a:ext cx="262080" cy="21096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65360" y="2097000"/>
              <a:ext cx="262080" cy="395280"/>
            </a:xfrm>
            <a:custGeom>
              <a:avLst/>
              <a:gdLst>
                <a:gd name="textAreaLeft" fmla="*/ 32400 w 262080"/>
                <a:gd name="textAreaRight" fmla="*/ 229680 w 262080"/>
                <a:gd name="textAreaTop" fmla="*/ 32400 h 395280"/>
                <a:gd name="textAreaBottom" fmla="*/ 362880 h 395280"/>
              </a:gdLst>
              <a:ahLst/>
              <a:rect l="textAreaLeft" t="textAreaTop" r="textAreaRight" b="textAreaBottom"/>
              <a:pathLst>
                <a:path w="21600" h="32563">
                  <a:moveTo>
                    <a:pt x="9164" y="0"/>
                  </a:moveTo>
                  <a:arcTo wR="9164" hR="9164" stAng="16200000" swAng="-5400000"/>
                  <a:lnTo>
                    <a:pt x="0" y="23399"/>
                  </a:lnTo>
                  <a:arcTo wR="9164" hR="9164" stAng="10800000" swAng="-5400000"/>
                  <a:lnTo>
                    <a:pt x="12436" y="32563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5360" y="2281320"/>
              <a:ext cx="236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91360" y="2440080"/>
              <a:ext cx="236520" cy="34128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41280"/>
                <a:gd name="textAreaBottom" fmla="*/ 308880 h 341280"/>
              </a:gdLst>
              <a:ahLst/>
              <a:rect l="textAreaLeft" t="textAreaTop" r="textAreaRight" b="textAreaBottom"/>
              <a:pathLst>
                <a:path w="21600" h="31153">
                  <a:moveTo>
                    <a:pt x="10148" y="0"/>
                  </a:moveTo>
                  <a:arcTo wR="10148" hR="10148" stAng="16200000" swAng="-5400000"/>
                  <a:lnTo>
                    <a:pt x="0" y="21005"/>
                  </a:lnTo>
                  <a:arcTo wR="10148" hR="10148" stAng="10800000" swAng="-5400000"/>
                  <a:lnTo>
                    <a:pt x="11452" y="31153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091360" y="2440080"/>
              <a:ext cx="262080" cy="368280"/>
            </a:xfrm>
            <a:custGeom>
              <a:avLst/>
              <a:gdLst>
                <a:gd name="textAreaLeft" fmla="*/ 32400 w 262080"/>
                <a:gd name="textAreaRight" fmla="*/ 229680 w 262080"/>
                <a:gd name="textAreaTop" fmla="*/ 32400 h 368280"/>
                <a:gd name="textAreaBottom" fmla="*/ 335880 h 368280"/>
              </a:gdLst>
              <a:ahLst/>
              <a:rect l="textAreaLeft" t="textAreaTop" r="textAreaRight" b="textAreaBottom"/>
              <a:pathLst>
                <a:path w="21600" h="30341">
                  <a:moveTo>
                    <a:pt x="9164" y="0"/>
                  </a:moveTo>
                  <a:arcTo wR="9164" hR="9164" stAng="16200000" swAng="-5400000"/>
                  <a:lnTo>
                    <a:pt x="0" y="21177"/>
                  </a:lnTo>
                  <a:arcTo wR="9164" hR="9164" stAng="10800000" swAng="-5400000"/>
                  <a:lnTo>
                    <a:pt x="12436" y="30341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91360" y="2624040"/>
              <a:ext cx="236520" cy="184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091360" y="2624040"/>
              <a:ext cx="262080" cy="209520"/>
            </a:xfrm>
            <a:prstGeom prst="rect">
              <a:avLst/>
            </a:pr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091360" y="2440080"/>
              <a:ext cx="262080" cy="368280"/>
            </a:xfrm>
            <a:custGeom>
              <a:avLst/>
              <a:gdLst>
                <a:gd name="textAreaLeft" fmla="*/ 32400 w 262080"/>
                <a:gd name="textAreaRight" fmla="*/ 229680 w 262080"/>
                <a:gd name="textAreaTop" fmla="*/ 32400 h 368280"/>
                <a:gd name="textAreaBottom" fmla="*/ 335880 h 368280"/>
              </a:gdLst>
              <a:ahLst/>
              <a:rect l="textAreaLeft" t="textAreaTop" r="textAreaRight" b="textAreaBottom"/>
              <a:pathLst>
                <a:path w="21600" h="30341">
                  <a:moveTo>
                    <a:pt x="9164" y="0"/>
                  </a:moveTo>
                  <a:arcTo wR="9164" hR="9164" stAng="16200000" swAng="-5400000"/>
                  <a:lnTo>
                    <a:pt x="0" y="21177"/>
                  </a:lnTo>
                  <a:arcTo wR="9164" hR="9164" stAng="10800000" swAng="-5400000"/>
                  <a:lnTo>
                    <a:pt x="12436" y="30341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91360" y="2624040"/>
              <a:ext cx="236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70320" y="5254560"/>
              <a:ext cx="236880" cy="343080"/>
            </a:xfrm>
            <a:custGeom>
              <a:avLst/>
              <a:gdLst>
                <a:gd name="textAreaLeft" fmla="*/ 32400 w 236880"/>
                <a:gd name="textAreaRight" fmla="*/ 204480 w 236880"/>
                <a:gd name="textAreaTop" fmla="*/ 32400 h 343080"/>
                <a:gd name="textAreaBottom" fmla="*/ 310680 h 343080"/>
              </a:gdLst>
              <a:ahLst/>
              <a:rect l="textAreaLeft" t="textAreaTop" r="textAreaRight" b="textAreaBottom"/>
              <a:pathLst>
                <a:path w="21600" h="31269">
                  <a:moveTo>
                    <a:pt x="10148" y="0"/>
                  </a:moveTo>
                  <a:arcTo wR="10148" hR="10148" stAng="16200000" swAng="-5400000"/>
                  <a:lnTo>
                    <a:pt x="0" y="21121"/>
                  </a:lnTo>
                  <a:arcTo wR="10148" hR="10148" stAng="10800000" swAng="-5400000"/>
                  <a:lnTo>
                    <a:pt x="11452" y="31269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70320" y="5254560"/>
              <a:ext cx="262080" cy="368280"/>
            </a:xfrm>
            <a:custGeom>
              <a:avLst/>
              <a:gdLst>
                <a:gd name="textAreaLeft" fmla="*/ 32400 w 262080"/>
                <a:gd name="textAreaRight" fmla="*/ 229680 w 262080"/>
                <a:gd name="textAreaTop" fmla="*/ 32400 h 368280"/>
                <a:gd name="textAreaBottom" fmla="*/ 335880 h 368280"/>
              </a:gdLst>
              <a:ahLst/>
              <a:rect l="textAreaLeft" t="textAreaTop" r="textAreaRight" b="textAreaBottom"/>
              <a:pathLst>
                <a:path w="21600" h="30341">
                  <a:moveTo>
                    <a:pt x="9164" y="0"/>
                  </a:moveTo>
                  <a:arcTo wR="9164" hR="9164" stAng="16200000" swAng="-5400000"/>
                  <a:lnTo>
                    <a:pt x="0" y="21177"/>
                  </a:lnTo>
                  <a:arcTo wR="9164" hR="9164" stAng="10800000" swAng="-5400000"/>
                  <a:lnTo>
                    <a:pt x="12436" y="30341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95880" y="5438880"/>
              <a:ext cx="211320" cy="158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195880" y="5438880"/>
              <a:ext cx="236520" cy="18396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70320" y="5254560"/>
              <a:ext cx="262080" cy="368280"/>
            </a:xfrm>
            <a:custGeom>
              <a:avLst/>
              <a:gdLst>
                <a:gd name="textAreaLeft" fmla="*/ 32400 w 262080"/>
                <a:gd name="textAreaRight" fmla="*/ 229680 w 262080"/>
                <a:gd name="textAreaTop" fmla="*/ 32400 h 368280"/>
                <a:gd name="textAreaBottom" fmla="*/ 335880 h 368280"/>
              </a:gdLst>
              <a:ahLst/>
              <a:rect l="textAreaLeft" t="textAreaTop" r="textAreaRight" b="textAreaBottom"/>
              <a:pathLst>
                <a:path w="21600" h="30341">
                  <a:moveTo>
                    <a:pt x="9164" y="0"/>
                  </a:moveTo>
                  <a:arcTo wR="9164" hR="9164" stAng="16200000" swAng="-5400000"/>
                  <a:lnTo>
                    <a:pt x="0" y="21177"/>
                  </a:lnTo>
                  <a:arcTo wR="9164" hR="9164" stAng="10800000" swAng="-5400000"/>
                  <a:lnTo>
                    <a:pt x="12436" y="30341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70320" y="5413320"/>
              <a:ext cx="236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143160" y="4202280"/>
              <a:ext cx="31608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43160" y="4202280"/>
              <a:ext cx="343080" cy="44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25600" y="4311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38960" y="1255680"/>
              <a:ext cx="3412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38960" y="1255680"/>
              <a:ext cx="368280" cy="447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12400" y="16891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27440" y="2281320"/>
              <a:ext cx="10620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50" y="67"/>
                  </a:moveTo>
                  <a:lnTo>
                    <a:pt x="17" y="83"/>
                  </a:lnTo>
                  <a:lnTo>
                    <a:pt x="0" y="0"/>
                  </a:lnTo>
                  <a:lnTo>
                    <a:pt x="67" y="50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906640" y="2387520"/>
              <a:ext cx="2263680" cy="302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07200" y="528156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66" y="16"/>
                  </a:moveTo>
                  <a:lnTo>
                    <a:pt x="83" y="33"/>
                  </a:lnTo>
                  <a:lnTo>
                    <a:pt x="0" y="83"/>
                  </a:lnTo>
                  <a:lnTo>
                    <a:pt x="49" y="0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5511960" y="2755440"/>
              <a:ext cx="2604960" cy="255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03040" y="13730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13320" y="550404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28400" y="54259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02400" y="35053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03480" y="3741840"/>
              <a:ext cx="25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75240" y="17161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07080" y="2030400"/>
              <a:ext cx="904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eadlo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08880" y="2293920"/>
              <a:ext cx="82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etec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43840" y="4361040"/>
              <a:ext cx="34128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43840" y="4361040"/>
              <a:ext cx="368280" cy="473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33120" y="4478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72320" y="21891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95880" y="2557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95440" y="5635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29400" y="3057480"/>
              <a:ext cx="900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iti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1840" y="166212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8488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30400" y="166212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3892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83360" y="1662120"/>
              <a:ext cx="323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16720" y="163512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60080" y="166212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36640" y="37148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441120" y="36878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4480" y="37148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03120" y="332100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34600" y="329400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78320" y="332100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59840" y="329400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04280" y="332100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4240" y="5834160"/>
              <a:ext cx="104760" cy="13176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50" y="50"/>
                  </a:moveTo>
                  <a:lnTo>
                    <a:pt x="66" y="83"/>
                  </a:lnTo>
                  <a:lnTo>
                    <a:pt x="0" y="50"/>
                  </a:lnTo>
                  <a:lnTo>
                    <a:pt x="50" y="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669000" y="5202360"/>
              <a:ext cx="1736640" cy="711000"/>
            </a:xfrm>
            <a:custGeom>
              <a:avLst/>
              <a:gdLst/>
              <a:ahLst/>
              <a:rect l="l" t="t" r="r" b="b"/>
              <a:pathLst>
                <a:path w="1094" h="448">
                  <a:moveTo>
                    <a:pt x="1094" y="0"/>
                  </a:moveTo>
                  <a:lnTo>
                    <a:pt x="1078" y="83"/>
                  </a:lnTo>
                  <a:lnTo>
                    <a:pt x="1012" y="166"/>
                  </a:lnTo>
                  <a:lnTo>
                    <a:pt x="780" y="315"/>
                  </a:lnTo>
                  <a:lnTo>
                    <a:pt x="431" y="398"/>
                  </a:lnTo>
                  <a:lnTo>
                    <a:pt x="0" y="448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07200" y="54133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3"/>
                  </a:moveTo>
                  <a:lnTo>
                    <a:pt x="66" y="66"/>
                  </a:lnTo>
                  <a:lnTo>
                    <a:pt x="0" y="33"/>
                  </a:lnTo>
                  <a:lnTo>
                    <a:pt x="66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11960" y="4808520"/>
              <a:ext cx="1815840" cy="657360"/>
            </a:xfrm>
            <a:custGeom>
              <a:avLst/>
              <a:gdLst/>
              <a:ahLst/>
              <a:rect l="l" t="t" r="r" b="b"/>
              <a:pathLst>
                <a:path w="1144" h="414">
                  <a:moveTo>
                    <a:pt x="1144" y="0"/>
                  </a:moveTo>
                  <a:lnTo>
                    <a:pt x="1111" y="82"/>
                  </a:lnTo>
                  <a:lnTo>
                    <a:pt x="1044" y="149"/>
                  </a:lnTo>
                  <a:lnTo>
                    <a:pt x="812" y="281"/>
                  </a:lnTo>
                  <a:lnTo>
                    <a:pt x="448" y="381"/>
                  </a:lnTo>
                  <a:lnTo>
                    <a:pt x="0" y="41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274920" y="46245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49"/>
                  </a:moveTo>
                  <a:lnTo>
                    <a:pt x="0" y="66"/>
                  </a:lnTo>
                  <a:lnTo>
                    <a:pt x="17" y="0"/>
                  </a:lnTo>
                  <a:lnTo>
                    <a:pt x="66" y="49"/>
                  </a:lnTo>
                  <a:lnTo>
                    <a:pt x="33" y="4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27480" y="4729320"/>
              <a:ext cx="1842840" cy="736560"/>
            </a:xfrm>
            <a:custGeom>
              <a:avLst/>
              <a:gdLst/>
              <a:ahLst/>
              <a:rect l="l" t="t" r="r" b="b"/>
              <a:pathLst>
                <a:path w="1161" h="464">
                  <a:moveTo>
                    <a:pt x="1161" y="464"/>
                  </a:moveTo>
                  <a:lnTo>
                    <a:pt x="730" y="431"/>
                  </a:lnTo>
                  <a:lnTo>
                    <a:pt x="365" y="331"/>
                  </a:lnTo>
                  <a:lnTo>
                    <a:pt x="116" y="182"/>
                  </a:lnTo>
                  <a:lnTo>
                    <a:pt x="33" y="9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643120" y="249228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33" y="66"/>
                  </a:moveTo>
                  <a:lnTo>
                    <a:pt x="0" y="66"/>
                  </a:lnTo>
                  <a:lnTo>
                    <a:pt x="33" y="0"/>
                  </a:lnTo>
                  <a:lnTo>
                    <a:pt x="67" y="66"/>
                  </a:lnTo>
                  <a:lnTo>
                    <a:pt x="33" y="6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95680" y="2597040"/>
              <a:ext cx="447480" cy="1816200"/>
            </a:xfrm>
            <a:custGeom>
              <a:avLst/>
              <a:gdLst/>
              <a:ahLst/>
              <a:rect l="l" t="t" r="r" b="b"/>
              <a:pathLst>
                <a:path w="282" h="1144">
                  <a:moveTo>
                    <a:pt x="282" y="1144"/>
                  </a:moveTo>
                  <a:lnTo>
                    <a:pt x="232" y="1127"/>
                  </a:lnTo>
                  <a:lnTo>
                    <a:pt x="183" y="1061"/>
                  </a:lnTo>
                  <a:lnTo>
                    <a:pt x="83" y="812"/>
                  </a:lnTo>
                  <a:lnTo>
                    <a:pt x="34" y="44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07200" y="1360440"/>
              <a:ext cx="77760" cy="10656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0" y="33"/>
                  </a:moveTo>
                  <a:lnTo>
                    <a:pt x="0" y="0"/>
                  </a:lnTo>
                  <a:lnTo>
                    <a:pt x="49" y="33"/>
                  </a:lnTo>
                  <a:lnTo>
                    <a:pt x="0" y="6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22680" y="1413000"/>
              <a:ext cx="2657520" cy="738000"/>
            </a:xfrm>
            <a:custGeom>
              <a:avLst/>
              <a:gdLst/>
              <a:ahLst/>
              <a:rect l="l" t="t" r="r" b="b"/>
              <a:pathLst>
                <a:path w="1674" h="465">
                  <a:moveTo>
                    <a:pt x="0" y="465"/>
                  </a:moveTo>
                  <a:lnTo>
                    <a:pt x="33" y="365"/>
                  </a:lnTo>
                  <a:lnTo>
                    <a:pt x="133" y="282"/>
                  </a:lnTo>
                  <a:lnTo>
                    <a:pt x="497" y="133"/>
                  </a:lnTo>
                  <a:lnTo>
                    <a:pt x="1028" y="34"/>
                  </a:lnTo>
                  <a:lnTo>
                    <a:pt x="167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43920" y="23083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17"/>
                  </a:moveTo>
                  <a:lnTo>
                    <a:pt x="66" y="0"/>
                  </a:lnTo>
                  <a:lnTo>
                    <a:pt x="49" y="66"/>
                  </a:lnTo>
                  <a:lnTo>
                    <a:pt x="0" y="17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80240" y="1440000"/>
              <a:ext cx="2315880" cy="868320"/>
            </a:xfrm>
            <a:custGeom>
              <a:avLst/>
              <a:gdLst/>
              <a:ahLst/>
              <a:rect l="l" t="t" r="r" b="b"/>
              <a:pathLst>
                <a:path w="1459" h="547">
                  <a:moveTo>
                    <a:pt x="0" y="0"/>
                  </a:moveTo>
                  <a:lnTo>
                    <a:pt x="531" y="50"/>
                  </a:lnTo>
                  <a:lnTo>
                    <a:pt x="995" y="166"/>
                  </a:lnTo>
                  <a:lnTo>
                    <a:pt x="1177" y="232"/>
                  </a:lnTo>
                  <a:lnTo>
                    <a:pt x="1310" y="332"/>
                  </a:lnTo>
                  <a:lnTo>
                    <a:pt x="1409" y="431"/>
                  </a:lnTo>
                  <a:lnTo>
                    <a:pt x="1459" y="54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85120" y="4465800"/>
              <a:ext cx="10620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50" y="33"/>
                  </a:moveTo>
                  <a:lnTo>
                    <a:pt x="67" y="66"/>
                  </a:lnTo>
                  <a:lnTo>
                    <a:pt x="0" y="33"/>
                  </a:lnTo>
                  <a:lnTo>
                    <a:pt x="50" y="0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91320" y="2833560"/>
              <a:ext cx="630360" cy="1684440"/>
            </a:xfrm>
            <a:custGeom>
              <a:avLst/>
              <a:gdLst/>
              <a:ahLst/>
              <a:rect l="l" t="t" r="r" b="b"/>
              <a:pathLst>
                <a:path w="397" h="1061">
                  <a:moveTo>
                    <a:pt x="397" y="0"/>
                  </a:moveTo>
                  <a:lnTo>
                    <a:pt x="364" y="382"/>
                  </a:lnTo>
                  <a:lnTo>
                    <a:pt x="281" y="697"/>
                  </a:lnTo>
                  <a:lnTo>
                    <a:pt x="165" y="945"/>
                  </a:lnTo>
                  <a:lnTo>
                    <a:pt x="82" y="1012"/>
                  </a:lnTo>
                  <a:lnTo>
                    <a:pt x="0" y="106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90080" y="27147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68400" y="5715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764200" y="2952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bes initiat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36760" y="1606680"/>
            <a:ext cx="9029520" cy="3333960"/>
            <a:chOff x="536760" y="1606680"/>
            <a:chExt cx="9029520" cy="3333960"/>
          </a:xfrm>
        </p:grpSpPr>
        <p:sp>
          <p:nvSpPr>
            <p:cNvPr id="857" name=""/>
            <p:cNvSpPr/>
            <p:nvPr/>
          </p:nvSpPr>
          <p:spPr>
            <a:xfrm flipH="1">
              <a:off x="4741920" y="3216240"/>
              <a:ext cx="760320" cy="1235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757760" y="3684600"/>
              <a:ext cx="1343160" cy="21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640560" y="2755440"/>
              <a:ext cx="735120" cy="5158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7280" y="2862360"/>
              <a:ext cx="148428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10560" y="2646360"/>
              <a:ext cx="762120" cy="8971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51560" y="3130560"/>
              <a:ext cx="2040120" cy="23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3673440" y="3571920"/>
              <a:ext cx="736560" cy="998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41640" y="3827520"/>
              <a:ext cx="175248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54400" y="1623960"/>
              <a:ext cx="168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) initial sit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62440" y="1623960"/>
              <a:ext cx="344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) detection initiated at object requested by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708200" y="267480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47"/>
                  </a:moveTo>
                  <a:lnTo>
                    <a:pt x="0" y="0"/>
                  </a:lnTo>
                  <a:lnTo>
                    <a:pt x="79" y="32"/>
                  </a:lnTo>
                  <a:lnTo>
                    <a:pt x="0" y="7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1240" y="2749680"/>
              <a:ext cx="673200" cy="498240"/>
            </a:xfrm>
            <a:custGeom>
              <a:avLst/>
              <a:gdLst/>
              <a:ahLst/>
              <a:rect l="l" t="t" r="r" b="b"/>
              <a:pathLst>
                <a:path w="424" h="314">
                  <a:moveTo>
                    <a:pt x="0" y="314"/>
                  </a:moveTo>
                  <a:lnTo>
                    <a:pt x="32" y="204"/>
                  </a:lnTo>
                  <a:lnTo>
                    <a:pt x="126" y="110"/>
                  </a:lnTo>
                  <a:lnTo>
                    <a:pt x="251" y="47"/>
                  </a:lnTo>
                  <a:lnTo>
                    <a:pt x="424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833480" y="2576520"/>
              <a:ext cx="298440" cy="3222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61840" y="3247920"/>
              <a:ext cx="298800" cy="29844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11400" y="3968640"/>
              <a:ext cx="322200" cy="3240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00320" y="3271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77760" y="2635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00000" y="3271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29760" y="40273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58800" y="4043520"/>
              <a:ext cx="12564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9" y="47"/>
                  </a:moveTo>
                  <a:lnTo>
                    <a:pt x="79" y="78"/>
                  </a:lnTo>
                  <a:lnTo>
                    <a:pt x="0" y="47"/>
                  </a:lnTo>
                  <a:lnTo>
                    <a:pt x="63" y="0"/>
                  </a:lnTo>
                  <a:lnTo>
                    <a:pt x="79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84440" y="3546360"/>
              <a:ext cx="596880" cy="546120"/>
            </a:xfrm>
            <a:custGeom>
              <a:avLst/>
              <a:gdLst/>
              <a:ahLst/>
              <a:rect l="l" t="t" r="r" b="b"/>
              <a:pathLst>
                <a:path w="376" h="344">
                  <a:moveTo>
                    <a:pt x="376" y="0"/>
                  </a:moveTo>
                  <a:lnTo>
                    <a:pt x="344" y="109"/>
                  </a:lnTo>
                  <a:lnTo>
                    <a:pt x="266" y="219"/>
                  </a:lnTo>
                  <a:lnTo>
                    <a:pt x="156" y="297"/>
                  </a:lnTo>
                  <a:lnTo>
                    <a:pt x="0" y="344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3247920"/>
              <a:ext cx="324000" cy="3222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36760" y="262728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31840" y="4092480"/>
              <a:ext cx="6462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31840" y="409248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63"/>
                  </a:moveTo>
                  <a:lnTo>
                    <a:pt x="0" y="0"/>
                  </a:lnTo>
                  <a:lnTo>
                    <a:pt x="63" y="0"/>
                  </a:lnTo>
                </a:path>
              </a:pathLst>
            </a:custGeom>
            <a:noFill/>
            <a:ln w="36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79760" y="409248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0"/>
                  </a:moveTo>
                  <a:lnTo>
                    <a:pt x="62" y="0"/>
                  </a:lnTo>
                  <a:lnTo>
                    <a:pt x="62" y="63"/>
                  </a:lnTo>
                </a:path>
              </a:pathLst>
            </a:custGeom>
            <a:noFill/>
            <a:ln w="36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79760" y="444168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62" y="62"/>
                  </a:lnTo>
                  <a:lnTo>
                    <a:pt x="0" y="62"/>
                  </a:lnTo>
                </a:path>
              </a:pathLst>
            </a:custGeom>
            <a:noFill/>
            <a:ln w="36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81320" y="4092480"/>
              <a:ext cx="172800" cy="180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2281320" y="4540320"/>
              <a:ext cx="172800" cy="144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31840" y="4441680"/>
              <a:ext cx="10008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63" y="62"/>
                  </a:moveTo>
                  <a:lnTo>
                    <a:pt x="0" y="62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85120" y="398448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86560" y="420840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70320" y="3049560"/>
              <a:ext cx="141480" cy="11916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5" y="45"/>
                  </a:moveTo>
                  <a:lnTo>
                    <a:pt x="45" y="0"/>
                  </a:lnTo>
                  <a:lnTo>
                    <a:pt x="89" y="75"/>
                  </a:lnTo>
                  <a:lnTo>
                    <a:pt x="0" y="75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94400" y="2859120"/>
              <a:ext cx="500040" cy="262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02160" y="3476520"/>
              <a:ext cx="118800" cy="14292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45" y="60"/>
                  </a:moveTo>
                  <a:lnTo>
                    <a:pt x="15" y="90"/>
                  </a:lnTo>
                  <a:lnTo>
                    <a:pt x="0" y="0"/>
                  </a:lnTo>
                  <a:lnTo>
                    <a:pt x="75" y="3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06400" y="3214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59240" y="3192480"/>
              <a:ext cx="309600" cy="307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95800" y="2670120"/>
              <a:ext cx="11916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0" y="30"/>
                  </a:moveTo>
                  <a:lnTo>
                    <a:pt x="0" y="0"/>
                  </a:lnTo>
                  <a:lnTo>
                    <a:pt x="75" y="30"/>
                  </a:lnTo>
                  <a:lnTo>
                    <a:pt x="15" y="7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25920" y="2739960"/>
              <a:ext cx="569880" cy="405000"/>
            </a:xfrm>
            <a:custGeom>
              <a:avLst/>
              <a:gdLst/>
              <a:ahLst/>
              <a:rect l="l" t="t" r="r" b="b"/>
              <a:pathLst>
                <a:path w="359" h="255">
                  <a:moveTo>
                    <a:pt x="0" y="255"/>
                  </a:moveTo>
                  <a:lnTo>
                    <a:pt x="30" y="165"/>
                  </a:lnTo>
                  <a:lnTo>
                    <a:pt x="105" y="90"/>
                  </a:lnTo>
                  <a:lnTo>
                    <a:pt x="210" y="30"/>
                  </a:lnTo>
                  <a:lnTo>
                    <a:pt x="359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10000" y="4570560"/>
              <a:ext cx="26028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98120" y="459252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94400" y="4427640"/>
              <a:ext cx="11880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0" y="15"/>
                  </a:moveTo>
                  <a:lnTo>
                    <a:pt x="75" y="45"/>
                  </a:lnTo>
                  <a:lnTo>
                    <a:pt x="0" y="75"/>
                  </a:lnTo>
                  <a:lnTo>
                    <a:pt x="0" y="0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11800" y="3192480"/>
              <a:ext cx="26208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11800" y="3192480"/>
              <a:ext cx="285840" cy="307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34480" y="32148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86240" y="2622600"/>
              <a:ext cx="28404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86240" y="2622600"/>
              <a:ext cx="308160" cy="28404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39520" y="2644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8368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3352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9148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51144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92080" y="3836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3176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8216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98628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082760" y="38368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54120" y="37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13880" y="378936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33840" y="37893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15560" y="3836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56040" y="3679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81320" y="36320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025240" y="36320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235480" y="3632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25840" y="3679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55800" y="36320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515560" y="36320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34080" y="36320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16520" y="3679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2408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5320" y="27068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91840" y="2706840"/>
              <a:ext cx="195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15040" y="27068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92800" y="27543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147480" y="2631960"/>
              <a:ext cx="75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653320" y="3679920"/>
              <a:ext cx="3254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653320" y="3679920"/>
              <a:ext cx="354240" cy="35244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719920" y="37116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91560" y="4657680"/>
              <a:ext cx="163440" cy="13644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86" y="35"/>
                  </a:moveTo>
                  <a:lnTo>
                    <a:pt x="103" y="86"/>
                  </a:lnTo>
                  <a:lnTo>
                    <a:pt x="0" y="52"/>
                  </a:lnTo>
                  <a:lnTo>
                    <a:pt x="86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8360"/>
              <a:ext cx="735120" cy="734760"/>
            </a:xfrm>
            <a:custGeom>
              <a:avLst/>
              <a:gdLst/>
              <a:ahLst/>
              <a:rect l="l" t="t" r="r" b="b"/>
              <a:pathLst>
                <a:path w="463" h="463">
                  <a:moveTo>
                    <a:pt x="463" y="0"/>
                  </a:moveTo>
                  <a:lnTo>
                    <a:pt x="428" y="154"/>
                  </a:lnTo>
                  <a:lnTo>
                    <a:pt x="326" y="291"/>
                  </a:lnTo>
                  <a:lnTo>
                    <a:pt x="188" y="411"/>
                  </a:lnTo>
                  <a:lnTo>
                    <a:pt x="0" y="463"/>
                  </a:lnTo>
                </a:path>
              </a:pathLst>
            </a:custGeom>
            <a:noFill/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78560" y="3298680"/>
              <a:ext cx="32544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78560" y="3298680"/>
              <a:ext cx="352440" cy="35424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51640" y="3330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39120" y="2374920"/>
              <a:ext cx="29844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539120" y="2374920"/>
              <a:ext cx="325440" cy="32544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83040" y="24066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39120" y="4603680"/>
              <a:ext cx="29844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90920" y="4532400"/>
              <a:ext cx="325440" cy="32688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555680" y="46353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02280" y="28576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16480" y="28036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67240" y="28036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08440" y="280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11040" y="2857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760800" y="280368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16240" y="28036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52760" y="280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6040" y="2840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97960" y="27687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855920" y="276876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40480" y="31370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63236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70544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5132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49600" y="3137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20404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25480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49420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598960" y="31370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720280" y="3083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791200" y="30830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038880" y="30830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135720" y="313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291240" y="3083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581520" y="4151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92480" y="40971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46480" y="409716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084800" y="40971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90640" y="4151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53640" y="44816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11600" y="44816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707320" y="4413240"/>
              <a:ext cx="67968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707320" y="4413240"/>
              <a:ext cx="10980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0" y="69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w="39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279000" y="441324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0" y="0"/>
                  </a:moveTo>
                  <a:lnTo>
                    <a:pt x="68" y="0"/>
                  </a:lnTo>
                  <a:lnTo>
                    <a:pt x="68" y="69"/>
                  </a:lnTo>
                </a:path>
              </a:pathLst>
            </a:custGeom>
            <a:noFill/>
            <a:ln w="39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79000" y="4821120"/>
              <a:ext cx="10800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0"/>
                  </a:moveTo>
                  <a:lnTo>
                    <a:pt x="68" y="69"/>
                  </a:lnTo>
                  <a:lnTo>
                    <a:pt x="0" y="69"/>
                  </a:lnTo>
                </a:path>
              </a:pathLst>
            </a:custGeom>
            <a:noFill/>
            <a:ln w="39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951760" y="4413240"/>
              <a:ext cx="190800" cy="1440"/>
            </a:xfrm>
            <a:prstGeom prst="line">
              <a:avLst/>
            </a:prstGeom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8951760" y="4930920"/>
              <a:ext cx="190800" cy="1440"/>
            </a:xfrm>
            <a:prstGeom prst="line">
              <a:avLst/>
            </a:prstGeom>
            <a:ln w="39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707320" y="4821120"/>
              <a:ext cx="109800" cy="10980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69"/>
                  </a:moveTo>
                  <a:lnTo>
                    <a:pt x="0" y="69"/>
                  </a:lnTo>
                  <a:lnTo>
                    <a:pt x="0" y="0"/>
                  </a:lnTo>
                </a:path>
              </a:pathLst>
            </a:custGeom>
            <a:noFill/>
            <a:ln w="39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790840" y="4398840"/>
              <a:ext cx="57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793360" y="46432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777000" y="3570120"/>
              <a:ext cx="136440" cy="16380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51" y="69"/>
                  </a:moveTo>
                  <a:lnTo>
                    <a:pt x="17" y="103"/>
                  </a:lnTo>
                  <a:lnTo>
                    <a:pt x="0" y="0"/>
                  </a:lnTo>
                  <a:lnTo>
                    <a:pt x="86" y="35"/>
                  </a:lnTo>
                  <a:lnTo>
                    <a:pt x="51" y="69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6857640" y="3679920"/>
              <a:ext cx="871560" cy="9237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38960" y="2646360"/>
              <a:ext cx="162000" cy="16344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34" y="52"/>
                  </a:moveTo>
                  <a:lnTo>
                    <a:pt x="0" y="17"/>
                  </a:lnTo>
                  <a:lnTo>
                    <a:pt x="102" y="0"/>
                  </a:lnTo>
                  <a:lnTo>
                    <a:pt x="68" y="103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16880" y="3516480"/>
              <a:ext cx="136440" cy="163440"/>
            </a:xfrm>
            <a:custGeom>
              <a:avLst/>
              <a:gdLst/>
              <a:ahLst/>
              <a:rect l="l" t="t" r="r" b="b"/>
              <a:pathLst>
                <a:path w="86" h="103">
                  <a:moveTo>
                    <a:pt x="35" y="34"/>
                  </a:moveTo>
                  <a:lnTo>
                    <a:pt x="69" y="0"/>
                  </a:lnTo>
                  <a:lnTo>
                    <a:pt x="86" y="103"/>
                  </a:lnTo>
                  <a:lnTo>
                    <a:pt x="0" y="69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184800" y="1606680"/>
              <a:ext cx="3381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c) detection initiated at object requested by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39120" y="4603680"/>
              <a:ext cx="325440" cy="32724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bes travel downhil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081560" y="885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047000" y="108108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495000" y="1628640"/>
            <a:ext cx="8719200" cy="3544200"/>
            <a:chOff x="495000" y="1628640"/>
            <a:chExt cx="8719200" cy="3544200"/>
          </a:xfrm>
        </p:grpSpPr>
        <p:sp>
          <p:nvSpPr>
            <p:cNvPr id="998" name=""/>
            <p:cNvSpPr/>
            <p:nvPr/>
          </p:nvSpPr>
          <p:spPr>
            <a:xfrm>
              <a:off x="4905000" y="1628640"/>
              <a:ext cx="43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b) Probe is forwarded when V starts wai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95000" y="1646280"/>
              <a:ext cx="38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) V stores probe when U starts wai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581120" y="4686480"/>
              <a:ext cx="1015920" cy="358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28840" y="2425680"/>
              <a:ext cx="32868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28840" y="2425680"/>
              <a:ext cx="357120" cy="46692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058840" y="4254480"/>
              <a:ext cx="3286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058840" y="4254480"/>
              <a:ext cx="358920" cy="46692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63920" y="3179880"/>
              <a:ext cx="32868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63920" y="3179880"/>
              <a:ext cx="357120" cy="46512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49600" y="32529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83920" y="249876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44520" y="43290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48000" y="4362480"/>
              <a:ext cx="119160" cy="14436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75" y="45"/>
                  </a:moveTo>
                  <a:lnTo>
                    <a:pt x="75" y="91"/>
                  </a:lnTo>
                  <a:lnTo>
                    <a:pt x="0" y="45"/>
                  </a:lnTo>
                  <a:lnTo>
                    <a:pt x="75" y="0"/>
                  </a:lnTo>
                  <a:lnTo>
                    <a:pt x="75" y="45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97040" y="3573360"/>
              <a:ext cx="1016280" cy="860400"/>
            </a:xfrm>
            <a:custGeom>
              <a:avLst/>
              <a:gdLst/>
              <a:ahLst/>
              <a:rect l="l" t="t" r="r" b="b"/>
              <a:pathLst>
                <a:path w="640" h="542">
                  <a:moveTo>
                    <a:pt x="640" y="0"/>
                  </a:moveTo>
                  <a:lnTo>
                    <a:pt x="583" y="181"/>
                  </a:lnTo>
                  <a:lnTo>
                    <a:pt x="452" y="362"/>
                  </a:lnTo>
                  <a:lnTo>
                    <a:pt x="245" y="475"/>
                  </a:lnTo>
                  <a:lnTo>
                    <a:pt x="0" y="542"/>
                  </a:ln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82200" y="4611600"/>
              <a:ext cx="61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2560" y="488304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97040" y="472284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56960" y="470232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34880" y="472284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91200" y="430848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90840" y="46162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42000" y="457200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121" y="41"/>
                  </a:moveTo>
                  <a:lnTo>
                    <a:pt x="121" y="81"/>
                  </a:lnTo>
                  <a:lnTo>
                    <a:pt x="0" y="41"/>
                  </a:lnTo>
                  <a:lnTo>
                    <a:pt x="121" y="0"/>
                  </a:lnTo>
                  <a:lnTo>
                    <a:pt x="121" y="41"/>
                  </a:lnTo>
                  <a:close/>
                </a:path>
              </a:pathLst>
            </a:custGeom>
            <a:solidFill>
              <a:srgbClr val="000000"/>
            </a:soli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65920" y="4059360"/>
              <a:ext cx="1217520" cy="577800"/>
            </a:xfrm>
            <a:custGeom>
              <a:avLst/>
              <a:gdLst/>
              <a:ahLst/>
              <a:rect l="l" t="t" r="r" b="b"/>
              <a:pathLst>
                <a:path w="767" h="364">
                  <a:moveTo>
                    <a:pt x="767" y="0"/>
                  </a:moveTo>
                  <a:lnTo>
                    <a:pt x="707" y="142"/>
                  </a:lnTo>
                  <a:lnTo>
                    <a:pt x="545" y="243"/>
                  </a:lnTo>
                  <a:lnTo>
                    <a:pt x="303" y="323"/>
                  </a:lnTo>
                  <a:lnTo>
                    <a:pt x="0" y="364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186680" y="2746440"/>
              <a:ext cx="1185840" cy="7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823520" y="446076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822800" y="47275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004000" y="3178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a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04000" y="346716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or 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10160" y="312264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493760" y="311472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791480" y="3122640"/>
              <a:ext cx="32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76840" y="2841480"/>
              <a:ext cx="225720" cy="160560"/>
            </a:xfrm>
            <a:custGeom>
              <a:avLst/>
              <a:gdLst/>
              <a:ahLst/>
              <a:rect l="l" t="t" r="r" b="b"/>
              <a:pathLst>
                <a:path w="142" h="101">
                  <a:moveTo>
                    <a:pt x="142" y="41"/>
                  </a:moveTo>
                  <a:lnTo>
                    <a:pt x="0" y="101"/>
                  </a:lnTo>
                  <a:lnTo>
                    <a:pt x="0" y="0"/>
                  </a:lnTo>
                  <a:lnTo>
                    <a:pt x="142" y="41"/>
                  </a:lnTo>
                  <a:close/>
                </a:path>
              </a:pathLst>
            </a:custGeom>
            <a:solidFill>
              <a:srgbClr val="000000"/>
            </a:soli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48400" y="2907000"/>
              <a:ext cx="2307960" cy="17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23" y="21182"/>
                  </a:moveTo>
                  <a:arcTo wR="10800" hR="10800" stAng="6360101" swAng="9303258"/>
                  <a:lnTo>
                    <a:pt x="10800" y="10800"/>
                  </a:lnTo>
                  <a:close/>
                </a:path>
                <a:path fill="none" w="21600" h="21600">
                  <a:moveTo>
                    <a:pt x="7823" y="21182"/>
                  </a:moveTo>
                  <a:arcTo wR="10800" hR="10800" stAng="6360101" swAng="9303258"/>
                </a:path>
              </a:pathLst>
            </a:cu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705720" y="3098880"/>
              <a:ext cx="225360" cy="288720"/>
            </a:xfrm>
            <a:custGeom>
              <a:avLst/>
              <a:gdLst/>
              <a:ahLst/>
              <a:rect l="l" t="t" r="r" b="b"/>
              <a:pathLst>
                <a:path w="142" h="182">
                  <a:moveTo>
                    <a:pt x="121" y="0"/>
                  </a:moveTo>
                  <a:lnTo>
                    <a:pt x="142" y="182"/>
                  </a:lnTo>
                  <a:lnTo>
                    <a:pt x="0" y="161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513480" y="3387240"/>
              <a:ext cx="289080" cy="10256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10160" y="280188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87960" y="2801880"/>
              <a:ext cx="253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711760" y="4765680"/>
              <a:ext cx="1122480" cy="3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02560" y="2693880"/>
              <a:ext cx="415800" cy="416160"/>
            </a:xfrm>
            <a:prstGeom prst="rect">
              <a:avLst/>
            </a:pr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21600" y="4413240"/>
              <a:ext cx="35208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21600" y="4413240"/>
              <a:ext cx="384120" cy="384120"/>
            </a:xfrm>
            <a:prstGeom prst="rect">
              <a:avLst/>
            </a:pr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91560" y="3675240"/>
              <a:ext cx="417240" cy="417240"/>
            </a:xfrm>
            <a:prstGeom prst="rect">
              <a:avLst/>
            </a:pr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13040" y="443700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00400" y="478944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47720" y="478152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44720" y="4789440"/>
              <a:ext cx="253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37040" y="3595680"/>
              <a:ext cx="26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80760" y="3552840"/>
              <a:ext cx="384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378200" y="359568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018280" y="3700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570080" y="2782800"/>
              <a:ext cx="238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97600" y="277020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470440" y="2887560"/>
              <a:ext cx="618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470800" y="315900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ypes of entry in a recovery fi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93840" y="1862280"/>
            <a:ext cx="8799480" cy="2500560"/>
            <a:chOff x="393840" y="1862280"/>
            <a:chExt cx="8799480" cy="2500560"/>
          </a:xfrm>
        </p:grpSpPr>
        <p:sp>
          <p:nvSpPr>
            <p:cNvPr id="1054" name=""/>
            <p:cNvSpPr/>
            <p:nvPr/>
          </p:nvSpPr>
          <p:spPr>
            <a:xfrm>
              <a:off x="466560" y="1925640"/>
              <a:ext cx="134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ype of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95160" y="1925640"/>
              <a:ext cx="322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 of contents of en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44680" y="2295360"/>
              <a:ext cx="67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45240" y="22953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04600" y="2295360"/>
              <a:ext cx="213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value of an obje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5120" y="2624040"/>
              <a:ext cx="184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491560" y="2624040"/>
              <a:ext cx="423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identifier, transaction status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17040" y="2624040"/>
              <a:ext cx="9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873200" y="2624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022960" y="2624040"/>
              <a:ext cx="106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00560" y="2900520"/>
              <a:ext cx="79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91120" y="2900520"/>
              <a:ext cx="491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 and other status values used for the two-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497680" y="3176640"/>
              <a:ext cx="175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it protoco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84000" y="31766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5480" y="3505320"/>
              <a:ext cx="139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ntions 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86520" y="3505320"/>
              <a:ext cx="602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action identifier and a sequence of intentions, ea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84360" y="3781440"/>
              <a:ext cx="6329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ich consists of &lt;identifier of object&gt;, &lt;position in re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495880" y="4057560"/>
              <a:ext cx="240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of value of object&gt;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87080" y="4057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28760" y="225432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93840" y="436104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11120" y="186228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tribu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6200" y="3225960"/>
            <a:ext cx="809640" cy="900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86200" y="3225960"/>
            <a:ext cx="833400" cy="92232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3506760"/>
            <a:ext cx="465120" cy="37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56480" y="1862280"/>
            <a:ext cx="809640" cy="900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56480" y="4848120"/>
            <a:ext cx="809640" cy="9003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56480" y="3311640"/>
            <a:ext cx="809640" cy="923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6880" y="3855960"/>
            <a:ext cx="809640" cy="922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95960" y="2698920"/>
            <a:ext cx="809640" cy="922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1720" y="3308400"/>
            <a:ext cx="465120" cy="37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81720" y="5149800"/>
            <a:ext cx="465120" cy="37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81720" y="2127240"/>
            <a:ext cx="465120" cy="37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81720" y="3862440"/>
            <a:ext cx="465120" cy="37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61080" y="2970360"/>
            <a:ext cx="465120" cy="37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61080" y="4079880"/>
            <a:ext cx="465120" cy="37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6880" y="3368520"/>
            <a:ext cx="808200" cy="8971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4280" y="3355920"/>
            <a:ext cx="830160" cy="91908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55960" y="4848120"/>
            <a:ext cx="807840" cy="920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43360" y="4835520"/>
            <a:ext cx="830160" cy="94284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9600" y="5218200"/>
            <a:ext cx="201960" cy="290520"/>
          </a:xfrm>
          <a:custGeom>
            <a:avLst/>
            <a:gdLst>
              <a:gd name="textAreaLeft" fmla="*/ 27720 w 201960"/>
              <a:gd name="textAreaRight" fmla="*/ 174240 w 201960"/>
              <a:gd name="textAreaTop" fmla="*/ 27720 h 290520"/>
              <a:gd name="textAreaBottom" fmla="*/ 262800 h 290520"/>
            </a:gdLst>
            <a:ahLst/>
            <a:rect l="textAreaLeft" t="textAreaTop" r="textAreaRight" b="textAreaBottom"/>
            <a:pathLst>
              <a:path w="21600" h="31055">
                <a:moveTo>
                  <a:pt x="10205" y="0"/>
                </a:moveTo>
                <a:arcTo wR="10205" hR="10205" stAng="16200000" swAng="-5400000"/>
                <a:lnTo>
                  <a:pt x="0" y="20850"/>
                </a:lnTo>
                <a:arcTo wR="10205" hR="10205" stAng="10800000" swAng="-5400000"/>
                <a:lnTo>
                  <a:pt x="11395" y="31055"/>
                </a:lnTo>
                <a:arcTo wR="10205" hR="10205" stAng="5400000" swAng="-5400000"/>
                <a:lnTo>
                  <a:pt x="21600" y="10205"/>
                </a:lnTo>
                <a:arcTo wR="10205" hR="1020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9600" y="5218200"/>
            <a:ext cx="223920" cy="314280"/>
          </a:xfrm>
          <a:custGeom>
            <a:avLst/>
            <a:gdLst>
              <a:gd name="textAreaLeft" fmla="*/ 27720 w 223920"/>
              <a:gd name="textAreaRight" fmla="*/ 196200 w 22392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302">
                <a:moveTo>
                  <a:pt x="9191" y="0"/>
                </a:moveTo>
                <a:arcTo wR="9191" hR="9191" stAng="16200000" swAng="-5400000"/>
                <a:lnTo>
                  <a:pt x="0" y="21111"/>
                </a:lnTo>
                <a:arcTo wR="9191" hR="9191" stAng="10800000" swAng="-5400000"/>
                <a:lnTo>
                  <a:pt x="12409" y="30302"/>
                </a:lnTo>
                <a:arcTo wR="9191" hR="9191" stAng="5400000" swAng="-5400000"/>
                <a:lnTo>
                  <a:pt x="21600" y="9191"/>
                </a:lnTo>
                <a:arcTo wR="9191" hR="9191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9600" y="5375160"/>
            <a:ext cx="201960" cy="1335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9600" y="5375160"/>
            <a:ext cx="223920" cy="15732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9600" y="5218200"/>
            <a:ext cx="223920" cy="314280"/>
          </a:xfrm>
          <a:custGeom>
            <a:avLst/>
            <a:gdLst>
              <a:gd name="textAreaLeft" fmla="*/ 27720 w 223920"/>
              <a:gd name="textAreaRight" fmla="*/ 196200 w 22392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302">
                <a:moveTo>
                  <a:pt x="9191" y="0"/>
                </a:moveTo>
                <a:arcTo wR="9191" hR="9191" stAng="16200000" swAng="-5400000"/>
                <a:lnTo>
                  <a:pt x="0" y="21111"/>
                </a:lnTo>
                <a:arcTo wR="9191" hR="9191" stAng="10800000" swAng="-5400000"/>
                <a:lnTo>
                  <a:pt x="12409" y="30302"/>
                </a:lnTo>
                <a:arcTo wR="9191" hR="9191" stAng="5400000" swAng="-5400000"/>
                <a:lnTo>
                  <a:pt x="21600" y="9191"/>
                </a:lnTo>
                <a:arcTo wR="9191" hR="9191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9600" y="5351400"/>
            <a:ext cx="20196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5960" y="3390840"/>
            <a:ext cx="807840" cy="8971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43360" y="3378240"/>
            <a:ext cx="830160" cy="91908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01920" y="3646440"/>
            <a:ext cx="201600" cy="292320"/>
          </a:xfrm>
          <a:custGeom>
            <a:avLst/>
            <a:gdLst>
              <a:gd name="textAreaLeft" fmla="*/ 27720 w 201600"/>
              <a:gd name="textAreaRight" fmla="*/ 173880 w 201600"/>
              <a:gd name="textAreaTop" fmla="*/ 27720 h 292320"/>
              <a:gd name="textAreaBottom" fmla="*/ 264600 h 292320"/>
            </a:gdLst>
            <a:ahLst/>
            <a:rect l="textAreaLeft" t="textAreaTop" r="textAreaRight" b="textAreaBottom"/>
            <a:pathLst>
              <a:path w="21600" h="31303">
                <a:moveTo>
                  <a:pt x="10205" y="0"/>
                </a:moveTo>
                <a:arcTo wR="10205" hR="10205" stAng="16200000" swAng="-5400000"/>
                <a:lnTo>
                  <a:pt x="0" y="21098"/>
                </a:lnTo>
                <a:arcTo wR="10205" hR="10205" stAng="10800000" swAng="-5400000"/>
                <a:lnTo>
                  <a:pt x="11395" y="31303"/>
                </a:lnTo>
                <a:arcTo wR="10205" hR="10205" stAng="5400000" swAng="-5400000"/>
                <a:lnTo>
                  <a:pt x="21600" y="10205"/>
                </a:lnTo>
                <a:arcTo wR="10205" hR="1020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01920" y="3646440"/>
            <a:ext cx="225360" cy="31428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109">
                <a:moveTo>
                  <a:pt x="9127" y="0"/>
                </a:moveTo>
                <a:arcTo wR="9127" hR="9127" stAng="16200000" swAng="-5400000"/>
                <a:lnTo>
                  <a:pt x="0" y="20982"/>
                </a:lnTo>
                <a:arcTo wR="9127" hR="9127" stAng="10800000" swAng="-5400000"/>
                <a:lnTo>
                  <a:pt x="12473" y="30109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1920" y="3803760"/>
            <a:ext cx="201600" cy="135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01920" y="3803760"/>
            <a:ext cx="225360" cy="15696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01920" y="3646440"/>
            <a:ext cx="225360" cy="31428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109">
                <a:moveTo>
                  <a:pt x="9127" y="0"/>
                </a:moveTo>
                <a:arcTo wR="9127" hR="9127" stAng="16200000" swAng="-5400000"/>
                <a:lnTo>
                  <a:pt x="0" y="20982"/>
                </a:lnTo>
                <a:arcTo wR="9127" hR="9127" stAng="10800000" swAng="-5400000"/>
                <a:lnTo>
                  <a:pt x="12473" y="30109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01920" y="3781440"/>
            <a:ext cx="2016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960" y="1909800"/>
            <a:ext cx="807840" cy="896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43360" y="1897200"/>
            <a:ext cx="830160" cy="91908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01920" y="2189160"/>
            <a:ext cx="201600" cy="314280"/>
          </a:xfrm>
          <a:custGeom>
            <a:avLst/>
            <a:gdLst>
              <a:gd name="textAreaLeft" fmla="*/ 27720 w 201600"/>
              <a:gd name="textAreaRight" fmla="*/ 173880 w 20160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3651">
                <a:moveTo>
                  <a:pt x="10205" y="0"/>
                </a:moveTo>
                <a:arcTo wR="10205" hR="10205" stAng="16200000" swAng="-5400000"/>
                <a:lnTo>
                  <a:pt x="0" y="23446"/>
                </a:lnTo>
                <a:arcTo wR="10205" hR="10205" stAng="10800000" swAng="-5400000"/>
                <a:lnTo>
                  <a:pt x="11395" y="33651"/>
                </a:lnTo>
                <a:arcTo wR="10205" hR="10205" stAng="5400000" swAng="-5400000"/>
                <a:lnTo>
                  <a:pt x="21600" y="10205"/>
                </a:lnTo>
                <a:arcTo wR="10205" hR="1020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1920" y="2189160"/>
            <a:ext cx="225360" cy="33660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36600"/>
              <a:gd name="textAreaBottom" fmla="*/ 308880 h 336600"/>
            </a:gdLst>
            <a:ahLst/>
            <a:rect l="textAreaLeft" t="textAreaTop" r="textAreaRight" b="textAreaBottom"/>
            <a:pathLst>
              <a:path w="21600" h="32245">
                <a:moveTo>
                  <a:pt x="9127" y="0"/>
                </a:moveTo>
                <a:arcTo wR="9127" hR="9127" stAng="16200000" swAng="-5400000"/>
                <a:lnTo>
                  <a:pt x="0" y="23118"/>
                </a:lnTo>
                <a:arcTo wR="9127" hR="9127" stAng="10800000" swAng="-5400000"/>
                <a:lnTo>
                  <a:pt x="12473" y="32245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1920" y="2346480"/>
            <a:ext cx="201600" cy="156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01920" y="2346480"/>
            <a:ext cx="225360" cy="17928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1920" y="2189160"/>
            <a:ext cx="225360" cy="33660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36600"/>
              <a:gd name="textAreaBottom" fmla="*/ 308880 h 336600"/>
            </a:gdLst>
            <a:ahLst/>
            <a:rect l="textAreaLeft" t="textAreaTop" r="textAreaRight" b="textAreaBottom"/>
            <a:pathLst>
              <a:path w="21600" h="32245">
                <a:moveTo>
                  <a:pt x="9127" y="0"/>
                </a:moveTo>
                <a:arcTo wR="9127" hR="9127" stAng="16200000" swAng="-5400000"/>
                <a:lnTo>
                  <a:pt x="0" y="23118"/>
                </a:lnTo>
                <a:arcTo wR="9127" hR="9127" stAng="10800000" swAng="-5400000"/>
                <a:lnTo>
                  <a:pt x="12473" y="32245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01920" y="2346480"/>
            <a:ext cx="2016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5880" y="430848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8680" y="204156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46360" y="3478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6000" y="49816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91040" y="3759120"/>
            <a:ext cx="88560" cy="90720"/>
          </a:xfrm>
          <a:custGeom>
            <a:avLst/>
            <a:gdLst/>
            <a:ahLst/>
            <a:rect l="l" t="t" r="r" b="b"/>
            <a:pathLst>
              <a:path w="56" h="57">
                <a:moveTo>
                  <a:pt x="0" y="28"/>
                </a:moveTo>
                <a:lnTo>
                  <a:pt x="0" y="0"/>
                </a:lnTo>
                <a:lnTo>
                  <a:pt x="56" y="28"/>
                </a:lnTo>
                <a:lnTo>
                  <a:pt x="0" y="57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91040" y="2368440"/>
            <a:ext cx="8856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14" y="42"/>
                </a:moveTo>
                <a:lnTo>
                  <a:pt x="0" y="14"/>
                </a:lnTo>
                <a:lnTo>
                  <a:pt x="56" y="0"/>
                </a:lnTo>
                <a:lnTo>
                  <a:pt x="42" y="56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91040" y="5262480"/>
            <a:ext cx="8856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14" y="14"/>
                </a:moveTo>
                <a:lnTo>
                  <a:pt x="42" y="0"/>
                </a:lnTo>
                <a:lnTo>
                  <a:pt x="56" y="56"/>
                </a:lnTo>
                <a:lnTo>
                  <a:pt x="0" y="28"/>
                </a:lnTo>
                <a:lnTo>
                  <a:pt x="14" y="14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83520" y="5138640"/>
            <a:ext cx="203400" cy="292320"/>
          </a:xfrm>
          <a:custGeom>
            <a:avLst/>
            <a:gdLst>
              <a:gd name="textAreaLeft" fmla="*/ 27720 w 203400"/>
              <a:gd name="textAreaRight" fmla="*/ 175680 w 203400"/>
              <a:gd name="textAreaTop" fmla="*/ 27720 h 292320"/>
              <a:gd name="textAreaBottom" fmla="*/ 264600 h 292320"/>
            </a:gdLst>
            <a:ahLst/>
            <a:rect l="textAreaLeft" t="textAreaTop" r="textAreaRight" b="textAreaBottom"/>
            <a:pathLst>
              <a:path w="21600" h="31026">
                <a:moveTo>
                  <a:pt x="10125" y="0"/>
                </a:moveTo>
                <a:arcTo wR="10125" hR="10125" stAng="16200000" swAng="-5400000"/>
                <a:lnTo>
                  <a:pt x="0" y="20901"/>
                </a:lnTo>
                <a:arcTo wR="10125" hR="10125" stAng="10800000" swAng="-5400000"/>
                <a:lnTo>
                  <a:pt x="11475" y="31026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83520" y="5138640"/>
            <a:ext cx="225360" cy="31428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109">
                <a:moveTo>
                  <a:pt x="9127" y="0"/>
                </a:moveTo>
                <a:arcTo wR="9127" hR="9127" stAng="16200000" swAng="-5400000"/>
                <a:lnTo>
                  <a:pt x="0" y="20982"/>
                </a:lnTo>
                <a:arcTo wR="9127" hR="9127" stAng="10800000" swAng="-5400000"/>
                <a:lnTo>
                  <a:pt x="12473" y="30109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83520" y="5295960"/>
            <a:ext cx="203400" cy="156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83520" y="5295960"/>
            <a:ext cx="225360" cy="17928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83520" y="5138640"/>
            <a:ext cx="225360" cy="31428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109">
                <a:moveTo>
                  <a:pt x="9127" y="0"/>
                </a:moveTo>
                <a:arcTo wR="9127" hR="9127" stAng="16200000" swAng="-5400000"/>
                <a:lnTo>
                  <a:pt x="0" y="20982"/>
                </a:lnTo>
                <a:arcTo wR="9127" hR="9127" stAng="10800000" swAng="-5400000"/>
                <a:lnTo>
                  <a:pt x="12473" y="30109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83520" y="5295960"/>
            <a:ext cx="20340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05840" y="3855960"/>
            <a:ext cx="203040" cy="292320"/>
          </a:xfrm>
          <a:custGeom>
            <a:avLst/>
            <a:gdLst>
              <a:gd name="textAreaLeft" fmla="*/ 27720 w 203040"/>
              <a:gd name="textAreaRight" fmla="*/ 175320 w 203040"/>
              <a:gd name="textAreaTop" fmla="*/ 27720 h 292320"/>
              <a:gd name="textAreaBottom" fmla="*/ 264600 h 292320"/>
            </a:gdLst>
            <a:ahLst/>
            <a:rect l="textAreaLeft" t="textAreaTop" r="textAreaRight" b="textAreaBottom"/>
            <a:pathLst>
              <a:path w="21600" h="31081">
                <a:moveTo>
                  <a:pt x="10125" y="0"/>
                </a:moveTo>
                <a:arcTo wR="10125" hR="10125" stAng="16200000" swAng="-5400000"/>
                <a:lnTo>
                  <a:pt x="0" y="20956"/>
                </a:lnTo>
                <a:arcTo wR="10125" hR="10125" stAng="10800000" swAng="-5400000"/>
                <a:lnTo>
                  <a:pt x="11475" y="31081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05840" y="3855960"/>
            <a:ext cx="225360" cy="31428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109">
                <a:moveTo>
                  <a:pt x="9127" y="0"/>
                </a:moveTo>
                <a:arcTo wR="9127" hR="9127" stAng="16200000" swAng="-5400000"/>
                <a:lnTo>
                  <a:pt x="0" y="20982"/>
                </a:lnTo>
                <a:arcTo wR="9127" hR="9127" stAng="10800000" swAng="-5400000"/>
                <a:lnTo>
                  <a:pt x="12473" y="30109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5840" y="4013280"/>
            <a:ext cx="203040" cy="135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05840" y="4013280"/>
            <a:ext cx="225360" cy="15696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05840" y="3855960"/>
            <a:ext cx="225360" cy="31428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109">
                <a:moveTo>
                  <a:pt x="9127" y="0"/>
                </a:moveTo>
                <a:arcTo wR="9127" hR="9127" stAng="16200000" swAng="-5400000"/>
                <a:lnTo>
                  <a:pt x="0" y="20982"/>
                </a:lnTo>
                <a:arcTo wR="9127" hR="9127" stAng="10800000" swAng="-5400000"/>
                <a:lnTo>
                  <a:pt x="12473" y="30109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05840" y="3990960"/>
            <a:ext cx="2030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05840" y="3405240"/>
            <a:ext cx="203040" cy="293760"/>
          </a:xfrm>
          <a:custGeom>
            <a:avLst/>
            <a:gdLst>
              <a:gd name="textAreaLeft" fmla="*/ 27720 w 203040"/>
              <a:gd name="textAreaRight" fmla="*/ 175320 w 203040"/>
              <a:gd name="textAreaTop" fmla="*/ 27720 h 293760"/>
              <a:gd name="textAreaBottom" fmla="*/ 266040 h 293760"/>
            </a:gdLst>
            <a:ahLst/>
            <a:rect l="textAreaLeft" t="textAreaTop" r="textAreaRight" b="textAreaBottom"/>
            <a:pathLst>
              <a:path w="21600" h="31234">
                <a:moveTo>
                  <a:pt x="10125" y="0"/>
                </a:moveTo>
                <a:arcTo wR="10125" hR="10125" stAng="16200000" swAng="-5400000"/>
                <a:lnTo>
                  <a:pt x="0" y="21109"/>
                </a:lnTo>
                <a:arcTo wR="10125" hR="10125" stAng="10800000" swAng="-5400000"/>
                <a:lnTo>
                  <a:pt x="11475" y="31234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05840" y="3405240"/>
            <a:ext cx="225360" cy="31572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5720"/>
              <a:gd name="textAreaBottom" fmla="*/ 288000 h 315720"/>
            </a:gdLst>
            <a:ahLst/>
            <a:rect l="textAreaLeft" t="textAreaTop" r="textAreaRight" b="textAreaBottom"/>
            <a:pathLst>
              <a:path w="21600" h="30247">
                <a:moveTo>
                  <a:pt x="9127" y="0"/>
                </a:moveTo>
                <a:arcTo wR="9127" hR="9127" stAng="16200000" swAng="-5400000"/>
                <a:lnTo>
                  <a:pt x="0" y="21120"/>
                </a:lnTo>
                <a:arcTo wR="9127" hR="9127" stAng="10800000" swAng="-5400000"/>
                <a:lnTo>
                  <a:pt x="12473" y="30247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05840" y="3564000"/>
            <a:ext cx="203040" cy="135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05840" y="3564000"/>
            <a:ext cx="225360" cy="15696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05840" y="3405240"/>
            <a:ext cx="225360" cy="31572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5720"/>
              <a:gd name="textAreaBottom" fmla="*/ 288000 h 315720"/>
            </a:gdLst>
            <a:ahLst/>
            <a:rect l="textAreaLeft" t="textAreaTop" r="textAreaRight" b="textAreaBottom"/>
            <a:pathLst>
              <a:path w="21600" h="30247">
                <a:moveTo>
                  <a:pt x="9127" y="0"/>
                </a:moveTo>
                <a:arcTo wR="9127" hR="9127" stAng="16200000" swAng="-5400000"/>
                <a:lnTo>
                  <a:pt x="0" y="21120"/>
                </a:lnTo>
                <a:arcTo wR="9127" hR="9127" stAng="10800000" swAng="-5400000"/>
                <a:lnTo>
                  <a:pt x="12473" y="30247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05840" y="3540240"/>
            <a:ext cx="2030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05840" y="2168640"/>
            <a:ext cx="203040" cy="291960"/>
          </a:xfrm>
          <a:custGeom>
            <a:avLst/>
            <a:gdLst>
              <a:gd name="textAreaLeft" fmla="*/ 27720 w 203040"/>
              <a:gd name="textAreaRight" fmla="*/ 175320 w 203040"/>
              <a:gd name="textAreaTop" fmla="*/ 27720 h 291960"/>
              <a:gd name="textAreaBottom" fmla="*/ 264240 h 291960"/>
            </a:gdLst>
            <a:ahLst/>
            <a:rect l="textAreaLeft" t="textAreaTop" r="textAreaRight" b="textAreaBottom"/>
            <a:pathLst>
              <a:path w="21600" h="31043">
                <a:moveTo>
                  <a:pt x="10125" y="0"/>
                </a:moveTo>
                <a:arcTo wR="10125" hR="10125" stAng="16200000" swAng="-5400000"/>
                <a:lnTo>
                  <a:pt x="0" y="20918"/>
                </a:lnTo>
                <a:arcTo wR="10125" hR="10125" stAng="10800000" swAng="-5400000"/>
                <a:lnTo>
                  <a:pt x="11475" y="31043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05840" y="2168640"/>
            <a:ext cx="225360" cy="31428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109">
                <a:moveTo>
                  <a:pt x="9127" y="0"/>
                </a:moveTo>
                <a:arcTo wR="9127" hR="9127" stAng="16200000" swAng="-5400000"/>
                <a:lnTo>
                  <a:pt x="0" y="20982"/>
                </a:lnTo>
                <a:arcTo wR="9127" hR="9127" stAng="10800000" swAng="-5400000"/>
                <a:lnTo>
                  <a:pt x="12473" y="30109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05840" y="2325600"/>
            <a:ext cx="203040" cy="1350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05840" y="2325600"/>
            <a:ext cx="225360" cy="15732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05840" y="2168640"/>
            <a:ext cx="225360" cy="31428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0109">
                <a:moveTo>
                  <a:pt x="9127" y="0"/>
                </a:moveTo>
                <a:arcTo wR="9127" hR="9127" stAng="16200000" swAng="-5400000"/>
                <a:lnTo>
                  <a:pt x="0" y="20982"/>
                </a:lnTo>
                <a:arcTo wR="9127" hR="9127" stAng="10800000" swAng="-5400000"/>
                <a:lnTo>
                  <a:pt x="12473" y="30109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5840" y="2303640"/>
            <a:ext cx="2030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9240" y="4170240"/>
            <a:ext cx="225360" cy="29232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292320"/>
              <a:gd name="textAreaBottom" fmla="*/ 264600 h 292320"/>
            </a:gdLst>
            <a:ahLst/>
            <a:rect l="textAreaLeft" t="textAreaTop" r="textAreaRight" b="textAreaBottom"/>
            <a:pathLst>
              <a:path w="21600" h="28008">
                <a:moveTo>
                  <a:pt x="9127" y="0"/>
                </a:moveTo>
                <a:arcTo wR="9127" hR="9127" stAng="16200000" swAng="-5400000"/>
                <a:lnTo>
                  <a:pt x="0" y="18881"/>
                </a:lnTo>
                <a:arcTo wR="9127" hR="9127" stAng="10800000" swAng="-5400000"/>
                <a:lnTo>
                  <a:pt x="12473" y="28008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9240" y="4170240"/>
            <a:ext cx="247680" cy="316080"/>
          </a:xfrm>
          <a:custGeom>
            <a:avLst/>
            <a:gdLst>
              <a:gd name="textAreaLeft" fmla="*/ 27720 w 247680"/>
              <a:gd name="textAreaRight" fmla="*/ 219960 w 247680"/>
              <a:gd name="textAreaTop" fmla="*/ 27720 h 316080"/>
              <a:gd name="textAreaBottom" fmla="*/ 288360 h 316080"/>
            </a:gdLst>
            <a:ahLst/>
            <a:rect l="textAreaLeft" t="textAreaTop" r="textAreaRight" b="textAreaBottom"/>
            <a:pathLst>
              <a:path w="21600" h="27556">
                <a:moveTo>
                  <a:pt x="8308" y="0"/>
                </a:moveTo>
                <a:arcTo wR="8308" hR="8308" stAng="16200000" swAng="-5400000"/>
                <a:lnTo>
                  <a:pt x="0" y="19248"/>
                </a:lnTo>
                <a:arcTo wR="8308" hR="8308" stAng="10800000" swAng="-5400000"/>
                <a:lnTo>
                  <a:pt x="13292" y="27556"/>
                </a:lnTo>
                <a:arcTo wR="8308" hR="8308" stAng="5400000" swAng="-5400000"/>
                <a:lnTo>
                  <a:pt x="21600" y="8308"/>
                </a:lnTo>
                <a:arcTo wR="8308" hR="8308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21560" y="4327560"/>
            <a:ext cx="203040" cy="1587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21560" y="4327560"/>
            <a:ext cx="225360" cy="18108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99240" y="4170240"/>
            <a:ext cx="247680" cy="316080"/>
          </a:xfrm>
          <a:custGeom>
            <a:avLst/>
            <a:gdLst>
              <a:gd name="textAreaLeft" fmla="*/ 27720 w 247680"/>
              <a:gd name="textAreaRight" fmla="*/ 219960 w 247680"/>
              <a:gd name="textAreaTop" fmla="*/ 27720 h 316080"/>
              <a:gd name="textAreaBottom" fmla="*/ 288360 h 316080"/>
            </a:gdLst>
            <a:ahLst/>
            <a:rect l="textAreaLeft" t="textAreaTop" r="textAreaRight" b="textAreaBottom"/>
            <a:pathLst>
              <a:path w="21600" h="27556">
                <a:moveTo>
                  <a:pt x="8308" y="0"/>
                </a:moveTo>
                <a:arcTo wR="8308" hR="8308" stAng="16200000" swAng="-5400000"/>
                <a:lnTo>
                  <a:pt x="0" y="19248"/>
                </a:lnTo>
                <a:arcTo wR="8308" hR="8308" stAng="10800000" swAng="-5400000"/>
                <a:lnTo>
                  <a:pt x="13292" y="27556"/>
                </a:lnTo>
                <a:arcTo wR="8308" hR="8308" stAng="5400000" swAng="-5400000"/>
                <a:lnTo>
                  <a:pt x="21600" y="8308"/>
                </a:lnTo>
                <a:arcTo wR="8308" hR="8308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99240" y="4327560"/>
            <a:ext cx="22536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21560" y="2978280"/>
            <a:ext cx="203040" cy="314280"/>
          </a:xfrm>
          <a:custGeom>
            <a:avLst/>
            <a:gdLst>
              <a:gd name="textAreaLeft" fmla="*/ 27720 w 203040"/>
              <a:gd name="textAreaRight" fmla="*/ 175320 w 203040"/>
              <a:gd name="textAreaTop" fmla="*/ 27720 h 314280"/>
              <a:gd name="textAreaBottom" fmla="*/ 286560 h 314280"/>
            </a:gdLst>
            <a:ahLst/>
            <a:rect l="textAreaLeft" t="textAreaTop" r="textAreaRight" b="textAreaBottom"/>
            <a:pathLst>
              <a:path w="21600" h="33413">
                <a:moveTo>
                  <a:pt x="10125" y="0"/>
                </a:moveTo>
                <a:arcTo wR="10125" hR="10125" stAng="16200000" swAng="-5400000"/>
                <a:lnTo>
                  <a:pt x="0" y="23288"/>
                </a:lnTo>
                <a:arcTo wR="10125" hR="10125" stAng="10800000" swAng="-5400000"/>
                <a:lnTo>
                  <a:pt x="11475" y="33413"/>
                </a:lnTo>
                <a:arcTo wR="10125" hR="10125" stAng="5400000" swAng="-5400000"/>
                <a:lnTo>
                  <a:pt x="21600" y="10125"/>
                </a:lnTo>
                <a:arcTo wR="10125" hR="1012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21560" y="2978280"/>
            <a:ext cx="225360" cy="33804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38040"/>
              <a:gd name="textAreaBottom" fmla="*/ 310320 h 338040"/>
            </a:gdLst>
            <a:ahLst/>
            <a:rect l="textAreaLeft" t="textAreaTop" r="textAreaRight" b="textAreaBottom"/>
            <a:pathLst>
              <a:path w="21600" h="32383">
                <a:moveTo>
                  <a:pt x="9127" y="0"/>
                </a:moveTo>
                <a:arcTo wR="9127" hR="9127" stAng="16200000" swAng="-5400000"/>
                <a:lnTo>
                  <a:pt x="0" y="23256"/>
                </a:lnTo>
                <a:arcTo wR="9127" hR="9127" stAng="10800000" swAng="-5400000"/>
                <a:lnTo>
                  <a:pt x="12473" y="32383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21560" y="3135240"/>
            <a:ext cx="203040" cy="157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21560" y="3135240"/>
            <a:ext cx="225360" cy="181080"/>
          </a:xfrm>
          <a:prstGeom prst="rect">
            <a:avLst/>
          </a:prstGeom>
          <a:noFill/>
          <a:ln w="3348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21560" y="2978280"/>
            <a:ext cx="225360" cy="338040"/>
          </a:xfrm>
          <a:custGeom>
            <a:avLst/>
            <a:gdLst>
              <a:gd name="textAreaLeft" fmla="*/ 27720 w 225360"/>
              <a:gd name="textAreaRight" fmla="*/ 197640 w 225360"/>
              <a:gd name="textAreaTop" fmla="*/ 27720 h 338040"/>
              <a:gd name="textAreaBottom" fmla="*/ 310320 h 338040"/>
            </a:gdLst>
            <a:ahLst/>
            <a:rect l="textAreaLeft" t="textAreaTop" r="textAreaRight" b="textAreaBottom"/>
            <a:pathLst>
              <a:path w="21600" h="32383">
                <a:moveTo>
                  <a:pt x="9127" y="0"/>
                </a:moveTo>
                <a:arcTo wR="9127" hR="9127" stAng="16200000" swAng="-5400000"/>
                <a:lnTo>
                  <a:pt x="0" y="23256"/>
                </a:lnTo>
                <a:arcTo wR="9127" hR="9127" stAng="10800000" swAng="-5400000"/>
                <a:lnTo>
                  <a:pt x="12473" y="32383"/>
                </a:lnTo>
                <a:arcTo wR="9127" hR="9127" stAng="5400000" swAng="-5400000"/>
                <a:lnTo>
                  <a:pt x="21600" y="9127"/>
                </a:lnTo>
                <a:arcTo wR="9127" hR="9127" stAng="0" swAng="-5400000"/>
                <a:close/>
              </a:path>
            </a:pathLst>
          </a:cu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21560" y="3135240"/>
            <a:ext cx="2030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27194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45640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89680" y="1886040"/>
            <a:ext cx="1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94600" y="30560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2480" y="3029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88960" y="3154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92480" y="41194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8840" y="42433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6080" y="22017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37680" y="2316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4400" y="303372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0960" y="48560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41920" y="3135240"/>
            <a:ext cx="88920" cy="68400"/>
          </a:xfrm>
          <a:custGeom>
            <a:avLst/>
            <a:gdLst/>
            <a:ahLst/>
            <a:rect l="l" t="t" r="r" b="b"/>
            <a:pathLst>
              <a:path w="56" h="43">
                <a:moveTo>
                  <a:pt x="14" y="29"/>
                </a:moveTo>
                <a:lnTo>
                  <a:pt x="0" y="0"/>
                </a:lnTo>
                <a:lnTo>
                  <a:pt x="56" y="0"/>
                </a:lnTo>
                <a:lnTo>
                  <a:pt x="42" y="43"/>
                </a:lnTo>
                <a:lnTo>
                  <a:pt x="14" y="29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68880" y="3180960"/>
            <a:ext cx="495360" cy="3142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64240" y="419256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14" y="29"/>
                </a:moveTo>
                <a:lnTo>
                  <a:pt x="28" y="0"/>
                </a:lnTo>
                <a:lnTo>
                  <a:pt x="57" y="57"/>
                </a:lnTo>
                <a:lnTo>
                  <a:pt x="0" y="57"/>
                </a:lnTo>
                <a:lnTo>
                  <a:pt x="14" y="29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68880" y="3855960"/>
            <a:ext cx="517680" cy="3826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70840" y="2325600"/>
            <a:ext cx="90360" cy="90720"/>
          </a:xfrm>
          <a:custGeom>
            <a:avLst/>
            <a:gdLst/>
            <a:ahLst/>
            <a:rect l="l" t="t" r="r" b="b"/>
            <a:pathLst>
              <a:path w="57" h="57">
                <a:moveTo>
                  <a:pt x="15" y="28"/>
                </a:moveTo>
                <a:lnTo>
                  <a:pt x="0" y="0"/>
                </a:lnTo>
                <a:lnTo>
                  <a:pt x="57" y="0"/>
                </a:lnTo>
                <a:lnTo>
                  <a:pt x="29" y="57"/>
                </a:lnTo>
                <a:lnTo>
                  <a:pt x="15" y="28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226200" y="2370240"/>
            <a:ext cx="968400" cy="65232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94600" y="345132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0" y="28"/>
                </a:moveTo>
                <a:lnTo>
                  <a:pt x="14" y="0"/>
                </a:lnTo>
                <a:lnTo>
                  <a:pt x="56" y="28"/>
                </a:lnTo>
                <a:lnTo>
                  <a:pt x="0" y="56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26200" y="3316320"/>
            <a:ext cx="968400" cy="1792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16920" y="3968640"/>
            <a:ext cx="90360" cy="88920"/>
          </a:xfrm>
          <a:custGeom>
            <a:avLst/>
            <a:gdLst/>
            <a:ahLst/>
            <a:rect l="l" t="t" r="r" b="b"/>
            <a:pathLst>
              <a:path w="57" h="56">
                <a:moveTo>
                  <a:pt x="0" y="28"/>
                </a:moveTo>
                <a:lnTo>
                  <a:pt x="0" y="0"/>
                </a:lnTo>
                <a:lnTo>
                  <a:pt x="57" y="14"/>
                </a:lnTo>
                <a:lnTo>
                  <a:pt x="14" y="56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248520" y="4012920"/>
            <a:ext cx="968400" cy="1350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16920" y="516096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14" y="28"/>
                </a:moveTo>
                <a:lnTo>
                  <a:pt x="28" y="0"/>
                </a:lnTo>
                <a:lnTo>
                  <a:pt x="57" y="57"/>
                </a:lnTo>
                <a:lnTo>
                  <a:pt x="0" y="57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72280" y="4440240"/>
            <a:ext cx="944640" cy="7650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08880" y="3090960"/>
            <a:ext cx="90360" cy="112680"/>
          </a:xfrm>
          <a:custGeom>
            <a:avLst/>
            <a:gdLst/>
            <a:ahLst/>
            <a:rect l="l" t="t" r="r" b="b"/>
            <a:pathLst>
              <a:path w="57" h="71">
                <a:moveTo>
                  <a:pt x="0" y="28"/>
                </a:moveTo>
                <a:lnTo>
                  <a:pt x="0" y="0"/>
                </a:lnTo>
                <a:lnTo>
                  <a:pt x="57" y="28"/>
                </a:lnTo>
                <a:lnTo>
                  <a:pt x="0" y="71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26200" y="3135240"/>
            <a:ext cx="3826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08880" y="426096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0" y="28"/>
                </a:moveTo>
                <a:lnTo>
                  <a:pt x="0" y="0"/>
                </a:lnTo>
                <a:lnTo>
                  <a:pt x="57" y="28"/>
                </a:lnTo>
                <a:lnTo>
                  <a:pt x="0" y="57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6200" y="4305240"/>
            <a:ext cx="38268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7760" y="36068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68840" y="33638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15360" y="349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3120" y="38894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24720" y="40384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97280" y="51721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08880" y="5321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94600" y="2257560"/>
            <a:ext cx="88920" cy="112680"/>
          </a:xfrm>
          <a:custGeom>
            <a:avLst/>
            <a:gdLst/>
            <a:ahLst/>
            <a:rect l="l" t="t" r="r" b="b"/>
            <a:pathLst>
              <a:path w="56" h="71">
                <a:moveTo>
                  <a:pt x="0" y="29"/>
                </a:moveTo>
                <a:lnTo>
                  <a:pt x="0" y="0"/>
                </a:lnTo>
                <a:lnTo>
                  <a:pt x="56" y="29"/>
                </a:lnTo>
                <a:lnTo>
                  <a:pt x="0" y="71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8880" y="2303640"/>
            <a:ext cx="31572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94600" y="3495600"/>
            <a:ext cx="88920" cy="90720"/>
          </a:xfrm>
          <a:custGeom>
            <a:avLst/>
            <a:gdLst/>
            <a:ahLst/>
            <a:rect l="l" t="t" r="r" b="b"/>
            <a:pathLst>
              <a:path w="56" h="57">
                <a:moveTo>
                  <a:pt x="0" y="28"/>
                </a:moveTo>
                <a:lnTo>
                  <a:pt x="0" y="0"/>
                </a:lnTo>
                <a:lnTo>
                  <a:pt x="56" y="28"/>
                </a:lnTo>
                <a:lnTo>
                  <a:pt x="0" y="57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8880" y="3540240"/>
            <a:ext cx="29196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94600" y="3944880"/>
            <a:ext cx="88920" cy="90720"/>
          </a:xfrm>
          <a:custGeom>
            <a:avLst/>
            <a:gdLst/>
            <a:ahLst/>
            <a:rect l="l" t="t" r="r" b="b"/>
            <a:pathLst>
              <a:path w="56" h="57">
                <a:moveTo>
                  <a:pt x="0" y="29"/>
                </a:moveTo>
                <a:lnTo>
                  <a:pt x="0" y="0"/>
                </a:lnTo>
                <a:lnTo>
                  <a:pt x="56" y="29"/>
                </a:lnTo>
                <a:lnTo>
                  <a:pt x="0" y="57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56560" y="3990960"/>
            <a:ext cx="33804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94600" y="5205240"/>
            <a:ext cx="88920" cy="113040"/>
          </a:xfrm>
          <a:custGeom>
            <a:avLst/>
            <a:gdLst/>
            <a:ahLst/>
            <a:rect l="l" t="t" r="r" b="b"/>
            <a:pathLst>
              <a:path w="56" h="71">
                <a:moveTo>
                  <a:pt x="0" y="43"/>
                </a:moveTo>
                <a:lnTo>
                  <a:pt x="0" y="0"/>
                </a:lnTo>
                <a:lnTo>
                  <a:pt x="56" y="43"/>
                </a:lnTo>
                <a:lnTo>
                  <a:pt x="0" y="71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78880" y="5273640"/>
            <a:ext cx="31572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320" y="130968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Flat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5320" y="130968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Nest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55760" y="3206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57480" y="2435400"/>
            <a:ext cx="1055520" cy="12110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57480" y="3803760"/>
            <a:ext cx="103356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32120" y="3632040"/>
            <a:ext cx="465120" cy="376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85480" y="37274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57480" y="3983040"/>
            <a:ext cx="1055520" cy="130176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 for banking servi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65120" y="1881360"/>
            <a:ext cx="8908920" cy="2113560"/>
            <a:chOff x="465120" y="1881360"/>
            <a:chExt cx="8908920" cy="2113560"/>
          </a:xfrm>
        </p:grpSpPr>
        <p:sp>
          <p:nvSpPr>
            <p:cNvPr id="1078" name=""/>
            <p:cNvSpPr/>
            <p:nvPr/>
          </p:nvSpPr>
          <p:spPr>
            <a:xfrm>
              <a:off x="533520" y="188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9080" y="1938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39920" y="188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55840" y="1938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08600" y="188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24160" y="1938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878360" y="188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93920" y="1938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6680" y="188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62240" y="1938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89600" y="188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05520" y="1938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659720" y="188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775280" y="1938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528040" y="188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643600" y="1938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73040" y="1941480"/>
              <a:ext cx="208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3160" y="1941480"/>
              <a:ext cx="190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11480" y="1941480"/>
              <a:ext cx="190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981600" y="1941480"/>
              <a:ext cx="190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49920" y="1941480"/>
              <a:ext cx="190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19680" y="1941480"/>
              <a:ext cx="190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61160" y="1941480"/>
              <a:ext cx="205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31280" y="1941480"/>
              <a:ext cx="18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499600" y="1941480"/>
              <a:ext cx="190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4600" y="218268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131840" y="2182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02920" y="218268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000160" y="2182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72680" y="218268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69560" y="2182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41000" y="218268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38600" y="2182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09320" y="218268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08360" y="2182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879440" y="2182680"/>
              <a:ext cx="56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438520" y="2182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7760" y="2182680"/>
              <a:ext cx="56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306840" y="2182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90680" y="218268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87560" y="2182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60800" y="2182680"/>
              <a:ext cx="64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315280" y="2182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529120" y="2182680"/>
              <a:ext cx="56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n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088200" y="2182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2440" y="239544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401120" y="2395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270520" y="239544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139200" y="2395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07520" y="239544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79080" y="23954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9200" y="2395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788520" y="239544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7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658640" y="239544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528760" y="23954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78000" y="26082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94280" y="26082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110200" y="26082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26082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341680" y="2665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17640" y="26082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527680" y="26082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643240" y="2608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778960" y="26082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894880" y="26082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010440" y="2665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088200" y="26082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878000" y="2819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994280" y="2819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110200" y="281952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2819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41680" y="28764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417640" y="2819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527680" y="2819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643960" y="2819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59880" y="281952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875800" y="2819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991360" y="28764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9069120" y="2819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8360" y="3032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3920" y="308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46680" y="3032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62240" y="308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28040" y="3032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43600" y="308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2760" y="2146320"/>
              <a:ext cx="889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2760" y="3290760"/>
              <a:ext cx="889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324080" y="2146320"/>
              <a:ext cx="0" cy="11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82680" y="2146320"/>
              <a:ext cx="0" cy="11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022560" y="2163600"/>
              <a:ext cx="0" cy="11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076560" y="2163600"/>
              <a:ext cx="0" cy="11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17880" y="2147760"/>
              <a:ext cx="0" cy="11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75040" y="2147760"/>
              <a:ext cx="0" cy="11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634000" y="2146320"/>
              <a:ext cx="0" cy="11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67560" y="2146320"/>
              <a:ext cx="0" cy="11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478720" y="2146320"/>
              <a:ext cx="0" cy="11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9374040" y="1897200"/>
              <a:ext cx="0" cy="135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65120" y="1897200"/>
              <a:ext cx="0" cy="135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283440" y="3449520"/>
              <a:ext cx="172800" cy="16992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82" y="80"/>
                  </a:moveTo>
                  <a:lnTo>
                    <a:pt x="54" y="107"/>
                  </a:lnTo>
                  <a:lnTo>
                    <a:pt x="0" y="0"/>
                  </a:lnTo>
                  <a:lnTo>
                    <a:pt x="109" y="67"/>
                  </a:lnTo>
                  <a:lnTo>
                    <a:pt x="82" y="8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408720" y="3289320"/>
              <a:ext cx="2473200" cy="620640"/>
            </a:xfrm>
            <a:custGeom>
              <a:avLst/>
              <a:gdLst/>
              <a:ahLst/>
              <a:rect l="l" t="t" r="r" b="b"/>
              <a:pathLst>
                <a:path w="1364" h="306">
                  <a:moveTo>
                    <a:pt x="1364" y="0"/>
                  </a:moveTo>
                  <a:lnTo>
                    <a:pt x="1310" y="120"/>
                  </a:lnTo>
                  <a:lnTo>
                    <a:pt x="1160" y="213"/>
                  </a:lnTo>
                  <a:lnTo>
                    <a:pt x="941" y="280"/>
                  </a:lnTo>
                  <a:lnTo>
                    <a:pt x="682" y="306"/>
                  </a:lnTo>
                  <a:lnTo>
                    <a:pt x="273" y="280"/>
                  </a:lnTo>
                  <a:lnTo>
                    <a:pt x="109" y="240"/>
                  </a:lnTo>
                  <a:lnTo>
                    <a:pt x="0" y="1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178600" y="3416400"/>
              <a:ext cx="129960" cy="190440"/>
            </a:xfrm>
            <a:custGeom>
              <a:avLst/>
              <a:gdLst/>
              <a:ahLst/>
              <a:rect l="l" t="t" r="r" b="b"/>
              <a:pathLst>
                <a:path w="82" h="120">
                  <a:moveTo>
                    <a:pt x="41" y="107"/>
                  </a:moveTo>
                  <a:lnTo>
                    <a:pt x="14" y="120"/>
                  </a:lnTo>
                  <a:lnTo>
                    <a:pt x="0" y="0"/>
                  </a:lnTo>
                  <a:lnTo>
                    <a:pt x="82" y="94"/>
                  </a:lnTo>
                  <a:lnTo>
                    <a:pt x="41" y="10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78320" y="3309840"/>
              <a:ext cx="930240" cy="523800"/>
            </a:xfrm>
            <a:custGeom>
              <a:avLst/>
              <a:gdLst/>
              <a:ahLst/>
              <a:rect l="l" t="t" r="r" b="b"/>
              <a:pathLst>
                <a:path w="586" h="306">
                  <a:moveTo>
                    <a:pt x="586" y="0"/>
                  </a:moveTo>
                  <a:lnTo>
                    <a:pt x="573" y="120"/>
                  </a:lnTo>
                  <a:lnTo>
                    <a:pt x="505" y="213"/>
                  </a:lnTo>
                  <a:lnTo>
                    <a:pt x="409" y="280"/>
                  </a:lnTo>
                  <a:lnTo>
                    <a:pt x="286" y="306"/>
                  </a:lnTo>
                  <a:lnTo>
                    <a:pt x="109" y="280"/>
                  </a:lnTo>
                  <a:lnTo>
                    <a:pt x="41" y="240"/>
                  </a:lnTo>
                  <a:lnTo>
                    <a:pt x="0" y="17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019240" y="340524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957520" y="3548160"/>
              <a:ext cx="31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803800" y="3781440"/>
              <a:ext cx="43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lo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44560" y="3444840"/>
              <a:ext cx="150840" cy="147600"/>
            </a:xfrm>
            <a:custGeom>
              <a:avLst/>
              <a:gdLst/>
              <a:ahLst/>
              <a:rect l="l" t="t" r="r" b="b"/>
              <a:pathLst>
                <a:path w="95" h="93">
                  <a:moveTo>
                    <a:pt x="81" y="80"/>
                  </a:moveTo>
                  <a:lnTo>
                    <a:pt x="54" y="93"/>
                  </a:lnTo>
                  <a:lnTo>
                    <a:pt x="0" y="0"/>
                  </a:lnTo>
                  <a:lnTo>
                    <a:pt x="95" y="53"/>
                  </a:lnTo>
                  <a:lnTo>
                    <a:pt x="81" y="8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73080" y="3322800"/>
              <a:ext cx="3203640" cy="574560"/>
            </a:xfrm>
            <a:custGeom>
              <a:avLst/>
              <a:gdLst/>
              <a:ahLst/>
              <a:rect l="l" t="t" r="r" b="b"/>
              <a:pathLst>
                <a:path w="2198" h="306">
                  <a:moveTo>
                    <a:pt x="2198" y="0"/>
                  </a:moveTo>
                  <a:lnTo>
                    <a:pt x="2184" y="53"/>
                  </a:lnTo>
                  <a:lnTo>
                    <a:pt x="2116" y="120"/>
                  </a:lnTo>
                  <a:lnTo>
                    <a:pt x="1884" y="213"/>
                  </a:lnTo>
                  <a:lnTo>
                    <a:pt x="1543" y="280"/>
                  </a:lnTo>
                  <a:lnTo>
                    <a:pt x="1106" y="306"/>
                  </a:lnTo>
                  <a:lnTo>
                    <a:pt x="437" y="280"/>
                  </a:lnTo>
                  <a:lnTo>
                    <a:pt x="178" y="226"/>
                  </a:lnTo>
                  <a:lnTo>
                    <a:pt x="0" y="13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54960" y="2146320"/>
              <a:ext cx="0" cy="114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hadow vers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036800" y="1727280"/>
            <a:ext cx="8067600" cy="3517920"/>
            <a:chOff x="1036800" y="1727280"/>
            <a:chExt cx="8067600" cy="3517920"/>
          </a:xfrm>
        </p:grpSpPr>
        <p:sp>
          <p:nvSpPr>
            <p:cNvPr id="1188" name=""/>
            <p:cNvSpPr/>
            <p:nvPr/>
          </p:nvSpPr>
          <p:spPr>
            <a:xfrm>
              <a:off x="7334280" y="4506840"/>
              <a:ext cx="893880" cy="3049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75600" y="4506840"/>
              <a:ext cx="893880" cy="3049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965600" y="1792440"/>
              <a:ext cx="113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p at st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189760" y="1792440"/>
              <a:ext cx="19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p when T comm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128240" y="2185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46840" y="218592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44120" y="2185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841040" y="2284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3680" y="2185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194800" y="218592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78120" y="2185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675040" y="2284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128240" y="254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324440" y="254628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644120" y="254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841040" y="2644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71720" y="2546280"/>
              <a:ext cx="4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63680" y="254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94800" y="254628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78120" y="254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75040" y="2644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28600" y="2906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57920" y="290664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76160" y="2906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72720" y="30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004840" y="2906640"/>
              <a:ext cx="9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64040" y="2906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4800" y="290664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11600" y="2906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708160" y="30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38840" y="2906640"/>
              <a:ext cx="9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49640" y="404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306240" y="4124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083120" y="404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35040" y="4124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44840" y="4046400"/>
              <a:ext cx="57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10040" y="404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61960" y="4124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72120" y="4046400"/>
              <a:ext cx="109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"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719680" y="404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870160" y="4124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47040" y="404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805080" y="4124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473960" y="404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632360" y="4124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302680" y="4046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461080" y="4124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257480" y="3936960"/>
              <a:ext cx="2520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17880" y="3936960"/>
              <a:ext cx="2376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949560" y="3936960"/>
              <a:ext cx="2556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76840" y="3936960"/>
              <a:ext cx="2520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78560" y="3936960"/>
              <a:ext cx="316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2040" y="3936960"/>
              <a:ext cx="298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45440" y="3936960"/>
              <a:ext cx="2376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170920" y="3936960"/>
              <a:ext cx="2520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078840" y="3936960"/>
              <a:ext cx="2556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623240" y="4535640"/>
              <a:ext cx="1158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ersion st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16600" y="4497480"/>
              <a:ext cx="40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152960" y="4497480"/>
              <a:ext cx="40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4497480"/>
              <a:ext cx="40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10840" y="4497480"/>
              <a:ext cx="26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18320" y="4497480"/>
              <a:ext cx="40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542360" y="4514760"/>
              <a:ext cx="40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7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372520" y="4514760"/>
              <a:ext cx="40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4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57480" y="4508640"/>
              <a:ext cx="1760400" cy="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17880" y="45086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41640" y="4508640"/>
              <a:ext cx="8827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949560" y="4508640"/>
              <a:ext cx="1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975120" y="4508640"/>
              <a:ext cx="7761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776840" y="4508640"/>
              <a:ext cx="1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802040" y="4508640"/>
              <a:ext cx="7527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578560" y="4508640"/>
              <a:ext cx="1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610240" y="4508640"/>
              <a:ext cx="8762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12040" y="4508640"/>
              <a:ext cx="1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541920" y="4508640"/>
              <a:ext cx="7779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170920" y="4525920"/>
              <a:ext cx="144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257480" y="4532400"/>
              <a:ext cx="25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257480" y="4818240"/>
              <a:ext cx="17604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017880" y="4532400"/>
              <a:ext cx="1440" cy="2617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017880" y="4818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41640" y="4818240"/>
              <a:ext cx="88272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49560" y="4532400"/>
              <a:ext cx="1800" cy="2617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949560" y="4818240"/>
              <a:ext cx="1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975120" y="4818240"/>
              <a:ext cx="7761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741920" y="4532400"/>
              <a:ext cx="1440" cy="2617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776840" y="4818240"/>
              <a:ext cx="1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02040" y="4818240"/>
              <a:ext cx="7527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578560" y="4532400"/>
              <a:ext cx="1440" cy="2617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78560" y="4818240"/>
              <a:ext cx="1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610240" y="4818240"/>
              <a:ext cx="8762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512040" y="4532400"/>
              <a:ext cx="1440" cy="2617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512040" y="4818240"/>
              <a:ext cx="1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41920" y="4818240"/>
              <a:ext cx="7779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70920" y="4835520"/>
              <a:ext cx="1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732480" y="48769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heck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637240" y="4532400"/>
              <a:ext cx="1440" cy="2617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188320" y="2238480"/>
              <a:ext cx="18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362600" y="2577960"/>
              <a:ext cx="18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62600" y="2936880"/>
              <a:ext cx="18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88320" y="2560680"/>
              <a:ext cx="18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8320" y="2935440"/>
              <a:ext cx="18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62600" y="2220840"/>
              <a:ext cx="18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55520" y="1727280"/>
              <a:ext cx="0" cy="152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867200" y="1744560"/>
              <a:ext cx="0" cy="152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747280" y="1727280"/>
              <a:ext cx="0" cy="152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55520" y="1727280"/>
              <a:ext cx="769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54080" y="3282840"/>
              <a:ext cx="769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36800" y="2174760"/>
              <a:ext cx="769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 with entries relating to two-phase 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501480" y="1932120"/>
            <a:ext cx="8839440" cy="1484280"/>
            <a:chOff x="501480" y="1932120"/>
            <a:chExt cx="8839440" cy="1484280"/>
          </a:xfrm>
        </p:grpSpPr>
        <p:sp>
          <p:nvSpPr>
            <p:cNvPr id="1298" name=""/>
            <p:cNvSpPr/>
            <p:nvPr/>
          </p:nvSpPr>
          <p:spPr>
            <a:xfrm>
              <a:off x="599400" y="1989000"/>
              <a:ext cx="55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rans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41920" y="19890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81840" y="198900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oord’r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45400" y="19890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337920" y="1989000"/>
              <a:ext cx="55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rans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886200" y="19890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371480" y="1989000"/>
              <a:ext cx="55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rans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20120" y="19890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005520" y="1989000"/>
              <a:ext cx="851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Part’pant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845760" y="2006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122600" y="1989000"/>
              <a:ext cx="55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rans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71240" y="19890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198640" y="1989000"/>
              <a:ext cx="55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rans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747640" y="19890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02640" y="245412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81840" y="2454120"/>
              <a:ext cx="779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part’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36920" y="2685960"/>
              <a:ext cx="65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st: . . 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39000" y="2454120"/>
              <a:ext cx="92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70040" y="245412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968080" y="2454120"/>
              <a:ext cx="963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oord’r: . 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21880" y="2454120"/>
              <a:ext cx="803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uncerta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200080" y="2454120"/>
              <a:ext cx="92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7680" y="2917800"/>
              <a:ext cx="851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tention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6600" y="3149640"/>
              <a:ext cx="26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71840" y="2917800"/>
              <a:ext cx="87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tention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1480" y="3416400"/>
              <a:ext cx="227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20560" y="1951200"/>
              <a:ext cx="227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62520" y="3397320"/>
              <a:ext cx="357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156120" y="3397320"/>
              <a:ext cx="24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156120" y="1949400"/>
              <a:ext cx="24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727600" y="1949400"/>
              <a:ext cx="357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1480" y="193212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449360" y="198612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86160" y="196848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63760" y="195120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300560" y="196848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65720" y="195120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08680" y="193356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050240" y="195120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161640" y="198612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053560" y="1968480"/>
              <a:ext cx="0" cy="14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593800" y="205596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941560" y="205596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38800" y="205596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680080" y="2055960"/>
              <a:ext cx="1080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66800" y="3149640"/>
              <a:ext cx="262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Recovery of the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541440" y="1258920"/>
            <a:ext cx="8877240" cy="5067360"/>
            <a:chOff x="541440" y="1258920"/>
            <a:chExt cx="8877240" cy="5067360"/>
          </a:xfrm>
        </p:grpSpPr>
        <p:sp>
          <p:nvSpPr>
            <p:cNvPr id="1346" name=""/>
            <p:cNvSpPr/>
            <p:nvPr/>
          </p:nvSpPr>
          <p:spPr>
            <a:xfrm>
              <a:off x="585000" y="12970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o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866960" y="1297080"/>
              <a:ext cx="52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014640" y="1297080"/>
              <a:ext cx="2422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ction of recovery 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5000" y="1628640"/>
              <a:ext cx="1044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65880" y="1628640"/>
              <a:ext cx="793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07440" y="1628640"/>
              <a:ext cx="5426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 decision had been reached before the server failed. It sen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19680" y="1863720"/>
              <a:ext cx="151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bort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53280" y="1863720"/>
              <a:ext cx="444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all the servers in the participant list and add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18600" y="2098800"/>
              <a:ext cx="1547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ransaction statu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642920" y="2098800"/>
              <a:ext cx="67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21520" y="2098800"/>
              <a:ext cx="356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 its recovery file. Same action for 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018960" y="2333520"/>
              <a:ext cx="672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bor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699720" y="2333520"/>
              <a:ext cx="528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. If there is no participant list, the participants will eventuall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016800" y="2568600"/>
              <a:ext cx="2899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imeout and abort the transac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85000" y="2803680"/>
              <a:ext cx="1044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865520" y="280368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008520" y="2803680"/>
              <a:ext cx="577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 decision to commit had been reached before the server failed. 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017520" y="3036960"/>
              <a:ext cx="68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ends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45080" y="303696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doComm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642200" y="3036960"/>
              <a:ext cx="4366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all the participants in its participant list (in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009240" y="3271680"/>
              <a:ext cx="615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t had not done so before) and resumes the two-phase protocol at step 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017520" y="3506760"/>
              <a:ext cx="921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Fig 13.5)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5720" y="3741840"/>
              <a:ext cx="93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65520" y="374184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15720" y="3741840"/>
              <a:ext cx="205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sends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174640" y="3741840"/>
              <a:ext cx="1358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haveCommitt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561000" y="3741840"/>
              <a:ext cx="267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message to the coordinator (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011040" y="3976560"/>
              <a:ext cx="6121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ase this was not done before it failed). This will allow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014640" y="4211640"/>
              <a:ext cx="583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discard information about this transaction at the next checkpoint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5720" y="4446720"/>
              <a:ext cx="93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66240" y="444672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ncertai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010680" y="4446720"/>
              <a:ext cx="6076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failed before it knew the outcome of the transaction.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14640" y="4681440"/>
              <a:ext cx="573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annot determine the status of the transaction until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015720" y="4916520"/>
              <a:ext cx="346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nforms it of the decision. It will send a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06000" y="4916520"/>
              <a:ext cx="103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Deci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73760" y="4916520"/>
              <a:ext cx="159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o the 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012840" y="5151600"/>
              <a:ext cx="6057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 determine the status of the transaction. When it receives the reply 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016800" y="5386320"/>
              <a:ext cx="2911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will commit or abort accordingl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85720" y="5707080"/>
              <a:ext cx="93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articip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865880" y="5707080"/>
              <a:ext cx="793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repar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011040" y="5707080"/>
              <a:ext cx="543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participant has not yet voted and can abort the transac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85000" y="6029280"/>
              <a:ext cx="1044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Coordina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5880" y="6029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293200" y="60292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016080" y="6029280"/>
              <a:ext cx="187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 action is require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41440" y="1258920"/>
              <a:ext cx="887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41440" y="1585800"/>
              <a:ext cx="887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1440" y="6326280"/>
              <a:ext cx="887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579600" y="2373480"/>
            <a:ext cx="8642160" cy="1842840"/>
            <a:chOff x="579600" y="2373480"/>
            <a:chExt cx="8642160" cy="1842840"/>
          </a:xfrm>
        </p:grpSpPr>
        <p:sp>
          <p:nvSpPr>
            <p:cNvPr id="1396" name=""/>
            <p:cNvSpPr/>
            <p:nvPr/>
          </p:nvSpPr>
          <p:spPr>
            <a:xfrm>
              <a:off x="579600" y="3313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51040" y="3149280"/>
              <a:ext cx="10936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25480" y="3479760"/>
              <a:ext cx="114444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2352600" y="2921040"/>
              <a:ext cx="99216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 flipV="1">
              <a:off x="2327400" y="3276720"/>
              <a:ext cx="99216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99960" y="2981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037120" y="307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58760" y="3006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694480" y="31021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62040" y="2992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7760" y="3087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309880" y="2981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445600" y="307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43360" y="2971800"/>
              <a:ext cx="484200" cy="33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12760" y="33386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49920" y="3432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81720" y="2971800"/>
              <a:ext cx="484200" cy="33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81720" y="3301920"/>
              <a:ext cx="484200" cy="33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843440" y="3924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967280" y="40179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3924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985000" y="40179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2480" y="3924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56680" y="40179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550360" y="3924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674200" y="40179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36560" y="29811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2280" y="30765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093000" y="2971800"/>
              <a:ext cx="457200" cy="33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971760" y="33386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108920" y="34322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07320" y="3311640"/>
              <a:ext cx="482400" cy="355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07320" y="2971800"/>
              <a:ext cx="482400" cy="33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91240" y="2971800"/>
              <a:ext cx="459000" cy="33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46320" y="3006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83840" y="31021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251200" y="3363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388720" y="34574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178840" y="3311640"/>
              <a:ext cx="482400" cy="355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178840" y="2971800"/>
              <a:ext cx="482400" cy="33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763120" y="2971800"/>
              <a:ext cx="458640" cy="330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910000" y="30067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9045720" y="3102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116960" y="23734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p of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062080" y="3032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87720" y="3179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062080" y="36957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187720" y="3789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20360" y="2727360"/>
              <a:ext cx="2552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389400" y="3338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513240" y="34322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16280" y="2921040"/>
              <a:ext cx="10188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32"/>
                  </a:moveTo>
                  <a:lnTo>
                    <a:pt x="0" y="0"/>
                  </a:lnTo>
                  <a:lnTo>
                    <a:pt x="64" y="48"/>
                  </a:lnTo>
                  <a:lnTo>
                    <a:pt x="0" y="6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387680" y="2639880"/>
              <a:ext cx="228600" cy="331920"/>
            </a:xfrm>
            <a:custGeom>
              <a:avLst/>
              <a:gdLst/>
              <a:ahLst/>
              <a:rect l="l" t="t" r="r" b="b"/>
              <a:pathLst>
                <a:path w="144" h="209">
                  <a:moveTo>
                    <a:pt x="144" y="209"/>
                  </a:moveTo>
                  <a:lnTo>
                    <a:pt x="32" y="12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495760" y="382284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137440" y="382284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905520" y="382284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61600" y="1771560"/>
            <a:ext cx="7745400" cy="4226760"/>
            <a:chOff x="561600" y="1771560"/>
            <a:chExt cx="7745400" cy="4226760"/>
          </a:xfrm>
        </p:grpSpPr>
        <p:sp>
          <p:nvSpPr>
            <p:cNvPr id="224" name=""/>
            <p:cNvSpPr/>
            <p:nvPr/>
          </p:nvSpPr>
          <p:spPr>
            <a:xfrm>
              <a:off x="4846680" y="5310360"/>
              <a:ext cx="555480" cy="46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46680" y="4756320"/>
              <a:ext cx="555480" cy="46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46680" y="3594240"/>
              <a:ext cx="555480" cy="46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46680" y="2163600"/>
              <a:ext cx="555480" cy="46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849840" y="2346120"/>
              <a:ext cx="86040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22840" y="2763720"/>
              <a:ext cx="939600" cy="73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18080" y="2946240"/>
              <a:ext cx="1069920" cy="172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35200" y="2946240"/>
              <a:ext cx="1227240" cy="224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65400" y="2071800"/>
              <a:ext cx="93996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55840" y="2521080"/>
              <a:ext cx="555840" cy="46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57680" y="3246480"/>
              <a:ext cx="93996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45080" y="3233880"/>
              <a:ext cx="965160" cy="106992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57680" y="1784520"/>
              <a:ext cx="939960" cy="1044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45080" y="1771560"/>
              <a:ext cx="965160" cy="106992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57680" y="4681440"/>
              <a:ext cx="939960" cy="1042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45080" y="4668840"/>
              <a:ext cx="965160" cy="106992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10120" y="2163600"/>
              <a:ext cx="235080" cy="365400"/>
            </a:xfrm>
            <a:custGeom>
              <a:avLst/>
              <a:gdLst>
                <a:gd name="textAreaLeft" fmla="*/ 32040 w 235080"/>
                <a:gd name="textAreaRight" fmla="*/ 203040 w 235080"/>
                <a:gd name="textAreaTop" fmla="*/ 32040 h 365400"/>
                <a:gd name="textAreaBottom" fmla="*/ 333360 h 365400"/>
              </a:gdLst>
              <a:ahLst/>
              <a:rect l="textAreaLeft" t="textAreaTop" r="textAreaRight" b="textAreaBottom"/>
              <a:pathLst>
                <a:path w="21600" h="33556">
                  <a:moveTo>
                    <a:pt x="10143" y="0"/>
                  </a:moveTo>
                  <a:arcTo wR="10143" hR="10143" stAng="16200000" swAng="-5400000"/>
                  <a:lnTo>
                    <a:pt x="0" y="23413"/>
                  </a:lnTo>
                  <a:arcTo wR="10143" hR="10143" stAng="10800000" swAng="-5400000"/>
                  <a:lnTo>
                    <a:pt x="11457" y="33556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10120" y="2163600"/>
              <a:ext cx="262080" cy="390600"/>
            </a:xfrm>
            <a:custGeom>
              <a:avLst/>
              <a:gdLst>
                <a:gd name="textAreaLeft" fmla="*/ 32040 w 262080"/>
                <a:gd name="textAreaRight" fmla="*/ 230040 w 262080"/>
                <a:gd name="textAreaTop" fmla="*/ 32040 h 390600"/>
                <a:gd name="textAreaBottom" fmla="*/ 358560 h 390600"/>
              </a:gdLst>
              <a:ahLst/>
              <a:rect l="textAreaLeft" t="textAreaTop" r="textAreaRight" b="textAreaBottom"/>
              <a:pathLst>
                <a:path w="21600" h="32178">
                  <a:moveTo>
                    <a:pt x="9098" y="0"/>
                  </a:moveTo>
                  <a:arcTo wR="9098" hR="9098" stAng="16200000" swAng="-5400000"/>
                  <a:lnTo>
                    <a:pt x="0" y="23080"/>
                  </a:lnTo>
                  <a:arcTo wR="9098" hR="9098" stAng="10800000" swAng="-5400000"/>
                  <a:lnTo>
                    <a:pt x="12502" y="32178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10120" y="2346480"/>
              <a:ext cx="23508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10120" y="2346480"/>
              <a:ext cx="262080" cy="20772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0120" y="2163600"/>
              <a:ext cx="262080" cy="390600"/>
            </a:xfrm>
            <a:custGeom>
              <a:avLst/>
              <a:gdLst>
                <a:gd name="textAreaLeft" fmla="*/ 32040 w 262080"/>
                <a:gd name="textAreaRight" fmla="*/ 230040 w 262080"/>
                <a:gd name="textAreaTop" fmla="*/ 32040 h 390600"/>
                <a:gd name="textAreaBottom" fmla="*/ 358560 h 390600"/>
              </a:gdLst>
              <a:ahLst/>
              <a:rect l="textAreaLeft" t="textAreaTop" r="textAreaRight" b="textAreaBottom"/>
              <a:pathLst>
                <a:path w="21600" h="32178">
                  <a:moveTo>
                    <a:pt x="9098" y="0"/>
                  </a:moveTo>
                  <a:arcTo wR="9098" hR="9098" stAng="16200000" swAng="-5400000"/>
                  <a:lnTo>
                    <a:pt x="0" y="23080"/>
                  </a:lnTo>
                  <a:arcTo wR="9098" hR="9098" stAng="10800000" swAng="-5400000"/>
                  <a:lnTo>
                    <a:pt x="12502" y="32178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0120" y="2346480"/>
              <a:ext cx="235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10120" y="3598920"/>
              <a:ext cx="235080" cy="365040"/>
            </a:xfrm>
            <a:custGeom>
              <a:avLst/>
              <a:gdLst>
                <a:gd name="textAreaLeft" fmla="*/ 32040 w 235080"/>
                <a:gd name="textAreaRight" fmla="*/ 203040 w 235080"/>
                <a:gd name="textAreaTop" fmla="*/ 32040 h 365040"/>
                <a:gd name="textAreaBottom" fmla="*/ 333000 h 365040"/>
              </a:gdLst>
              <a:ahLst/>
              <a:rect l="textAreaLeft" t="textAreaTop" r="textAreaRight" b="textAreaBottom"/>
              <a:pathLst>
                <a:path w="21600" h="33523">
                  <a:moveTo>
                    <a:pt x="10143" y="0"/>
                  </a:moveTo>
                  <a:arcTo wR="10143" hR="10143" stAng="16200000" swAng="-5400000"/>
                  <a:lnTo>
                    <a:pt x="0" y="23380"/>
                  </a:lnTo>
                  <a:arcTo wR="10143" hR="10143" stAng="10800000" swAng="-5400000"/>
                  <a:lnTo>
                    <a:pt x="11457" y="33523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10120" y="3598920"/>
              <a:ext cx="262080" cy="390600"/>
            </a:xfrm>
            <a:custGeom>
              <a:avLst/>
              <a:gdLst>
                <a:gd name="textAreaLeft" fmla="*/ 32040 w 262080"/>
                <a:gd name="textAreaRight" fmla="*/ 230040 w 262080"/>
                <a:gd name="textAreaTop" fmla="*/ 32040 h 390600"/>
                <a:gd name="textAreaBottom" fmla="*/ 358560 h 390600"/>
              </a:gdLst>
              <a:ahLst/>
              <a:rect l="textAreaLeft" t="textAreaTop" r="textAreaRight" b="textAreaBottom"/>
              <a:pathLst>
                <a:path w="21600" h="32178">
                  <a:moveTo>
                    <a:pt x="9098" y="0"/>
                  </a:moveTo>
                  <a:arcTo wR="9098" hR="9098" stAng="16200000" swAng="-5400000"/>
                  <a:lnTo>
                    <a:pt x="0" y="23080"/>
                  </a:lnTo>
                  <a:arcTo wR="9098" hR="9098" stAng="10800000" swAng="-5400000"/>
                  <a:lnTo>
                    <a:pt x="12502" y="32178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10120" y="3781440"/>
              <a:ext cx="23508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10120" y="3781440"/>
              <a:ext cx="262080" cy="20808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10120" y="3598920"/>
              <a:ext cx="262080" cy="390600"/>
            </a:xfrm>
            <a:custGeom>
              <a:avLst/>
              <a:gdLst>
                <a:gd name="textAreaLeft" fmla="*/ 32040 w 262080"/>
                <a:gd name="textAreaRight" fmla="*/ 230040 w 262080"/>
                <a:gd name="textAreaTop" fmla="*/ 32040 h 390600"/>
                <a:gd name="textAreaBottom" fmla="*/ 358560 h 390600"/>
              </a:gdLst>
              <a:ahLst/>
              <a:rect l="textAreaLeft" t="textAreaTop" r="textAreaRight" b="textAreaBottom"/>
              <a:pathLst>
                <a:path w="21600" h="32178">
                  <a:moveTo>
                    <a:pt x="9098" y="0"/>
                  </a:moveTo>
                  <a:arcTo wR="9098" hR="9098" stAng="16200000" swAng="-5400000"/>
                  <a:lnTo>
                    <a:pt x="0" y="23080"/>
                  </a:lnTo>
                  <a:arcTo wR="9098" hR="9098" stAng="10800000" swAng="-5400000"/>
                  <a:lnTo>
                    <a:pt x="12502" y="32178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10120" y="3781440"/>
              <a:ext cx="235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0120" y="4799160"/>
              <a:ext cx="235080" cy="339480"/>
            </a:xfrm>
            <a:custGeom>
              <a:avLst/>
              <a:gdLst>
                <a:gd name="textAreaLeft" fmla="*/ 32040 w 235080"/>
                <a:gd name="textAreaRight" fmla="*/ 203040 w 235080"/>
                <a:gd name="textAreaTop" fmla="*/ 32040 h 339480"/>
                <a:gd name="textAreaBottom" fmla="*/ 307440 h 339480"/>
              </a:gdLst>
              <a:ahLst/>
              <a:rect l="textAreaLeft" t="textAreaTop" r="textAreaRight" b="textAreaBottom"/>
              <a:pathLst>
                <a:path w="21600" h="31178">
                  <a:moveTo>
                    <a:pt x="10143" y="0"/>
                  </a:moveTo>
                  <a:arcTo wR="10143" hR="10143" stAng="16200000" swAng="-5400000"/>
                  <a:lnTo>
                    <a:pt x="0" y="21035"/>
                  </a:lnTo>
                  <a:arcTo wR="10143" hR="10143" stAng="10800000" swAng="-5400000"/>
                  <a:lnTo>
                    <a:pt x="11457" y="31178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10120" y="4799160"/>
              <a:ext cx="262080" cy="365040"/>
            </a:xfrm>
            <a:custGeom>
              <a:avLst/>
              <a:gdLst>
                <a:gd name="textAreaLeft" fmla="*/ 32040 w 262080"/>
                <a:gd name="textAreaRight" fmla="*/ 230040 w 262080"/>
                <a:gd name="textAreaTop" fmla="*/ 32040 h 365040"/>
                <a:gd name="textAreaBottom" fmla="*/ 333000 h 365040"/>
              </a:gdLst>
              <a:ahLst/>
              <a:rect l="textAreaLeft" t="textAreaTop" r="textAreaRight" b="textAreaBottom"/>
              <a:pathLst>
                <a:path w="21600" h="30074">
                  <a:moveTo>
                    <a:pt x="9098" y="0"/>
                  </a:moveTo>
                  <a:arcTo wR="9098" hR="9098" stAng="16200000" swAng="-5400000"/>
                  <a:lnTo>
                    <a:pt x="0" y="20976"/>
                  </a:lnTo>
                  <a:arcTo wR="9098" hR="9098" stAng="10800000" swAng="-5400000"/>
                  <a:lnTo>
                    <a:pt x="12502" y="30074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10120" y="4981680"/>
              <a:ext cx="235080" cy="182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10120" y="4981680"/>
              <a:ext cx="262080" cy="20952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10120" y="4799160"/>
              <a:ext cx="262080" cy="365040"/>
            </a:xfrm>
            <a:custGeom>
              <a:avLst/>
              <a:gdLst>
                <a:gd name="textAreaLeft" fmla="*/ 32040 w 262080"/>
                <a:gd name="textAreaRight" fmla="*/ 230040 w 262080"/>
                <a:gd name="textAreaTop" fmla="*/ 32040 h 365040"/>
                <a:gd name="textAreaBottom" fmla="*/ 333000 h 365040"/>
              </a:gdLst>
              <a:ahLst/>
              <a:rect l="textAreaLeft" t="textAreaTop" r="textAreaRight" b="textAreaBottom"/>
              <a:pathLst>
                <a:path w="21600" h="30074">
                  <a:moveTo>
                    <a:pt x="9098" y="0"/>
                  </a:moveTo>
                  <a:arcTo wR="9098" hR="9098" stAng="16200000" swAng="-5400000"/>
                  <a:lnTo>
                    <a:pt x="0" y="20976"/>
                  </a:lnTo>
                  <a:arcTo wR="9098" hR="9098" stAng="10800000" swAng="-5400000"/>
                  <a:lnTo>
                    <a:pt x="12502" y="30074"/>
                  </a:lnTo>
                  <a:arcTo wR="9098" hR="9098" stAng="5400000" swAng="-5400000"/>
                  <a:lnTo>
                    <a:pt x="21600" y="9098"/>
                  </a:lnTo>
                  <a:arcTo wR="9098" hR="909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10120" y="4981680"/>
              <a:ext cx="2350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84920" y="5268960"/>
              <a:ext cx="234720" cy="339840"/>
            </a:xfrm>
            <a:custGeom>
              <a:avLst/>
              <a:gdLst>
                <a:gd name="textAreaLeft" fmla="*/ 32040 w 234720"/>
                <a:gd name="textAreaRight" fmla="*/ 202680 w 234720"/>
                <a:gd name="textAreaTop" fmla="*/ 32040 h 339840"/>
                <a:gd name="textAreaBottom" fmla="*/ 307800 h 339840"/>
              </a:gdLst>
              <a:ahLst/>
              <a:rect l="textAreaLeft" t="textAreaTop" r="textAreaRight" b="textAreaBottom"/>
              <a:pathLst>
                <a:path w="21600" h="31259">
                  <a:moveTo>
                    <a:pt x="10143" y="0"/>
                  </a:moveTo>
                  <a:arcTo wR="10143" hR="10143" stAng="16200000" swAng="-5400000"/>
                  <a:lnTo>
                    <a:pt x="0" y="21116"/>
                  </a:lnTo>
                  <a:arcTo wR="10143" hR="10143" stAng="10800000" swAng="-5400000"/>
                  <a:lnTo>
                    <a:pt x="11457" y="31259"/>
                  </a:lnTo>
                  <a:arcTo wR="10143" hR="10143" stAng="5400000" swAng="-5400000"/>
                  <a:lnTo>
                    <a:pt x="21600" y="10143"/>
                  </a:lnTo>
                  <a:arcTo wR="10143" hR="10143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84920" y="5268960"/>
              <a:ext cx="260280" cy="365040"/>
            </a:xfrm>
            <a:custGeom>
              <a:avLst/>
              <a:gdLst>
                <a:gd name="textAreaLeft" fmla="*/ 32040 w 260280"/>
                <a:gd name="textAreaRight" fmla="*/ 228240 w 260280"/>
                <a:gd name="textAreaTop" fmla="*/ 32040 h 365040"/>
                <a:gd name="textAreaBottom" fmla="*/ 333000 h 365040"/>
              </a:gdLst>
              <a:ahLst/>
              <a:rect l="textAreaLeft" t="textAreaTop" r="textAreaRight" b="textAreaBottom"/>
              <a:pathLst>
                <a:path w="21600" h="30282">
                  <a:moveTo>
                    <a:pt x="9154" y="0"/>
                  </a:moveTo>
                  <a:arcTo wR="9154" hR="9154" stAng="16200000" swAng="-5400000"/>
                  <a:lnTo>
                    <a:pt x="0" y="21128"/>
                  </a:lnTo>
                  <a:arcTo wR="9154" hR="9154" stAng="10800000" swAng="-5400000"/>
                  <a:lnTo>
                    <a:pt x="12446" y="30282"/>
                  </a:lnTo>
                  <a:arcTo wR="9154" hR="9154" stAng="5400000" swAng="-5400000"/>
                  <a:lnTo>
                    <a:pt x="21600" y="9154"/>
                  </a:lnTo>
                  <a:arcTo wR="9154" hR="9154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84920" y="5451480"/>
              <a:ext cx="234720" cy="157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84920" y="5451480"/>
              <a:ext cx="260280" cy="18252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84920" y="5268960"/>
              <a:ext cx="260280" cy="365040"/>
            </a:xfrm>
            <a:custGeom>
              <a:avLst/>
              <a:gdLst>
                <a:gd name="textAreaLeft" fmla="*/ 32040 w 260280"/>
                <a:gd name="textAreaRight" fmla="*/ 228240 w 260280"/>
                <a:gd name="textAreaTop" fmla="*/ 32040 h 365040"/>
                <a:gd name="textAreaBottom" fmla="*/ 333000 h 365040"/>
              </a:gdLst>
              <a:ahLst/>
              <a:rect l="textAreaLeft" t="textAreaTop" r="textAreaRight" b="textAreaBottom"/>
              <a:pathLst>
                <a:path w="21600" h="30282">
                  <a:moveTo>
                    <a:pt x="9154" y="0"/>
                  </a:moveTo>
                  <a:arcTo wR="9154" hR="9154" stAng="16200000" swAng="-5400000"/>
                  <a:lnTo>
                    <a:pt x="0" y="21128"/>
                  </a:lnTo>
                  <a:arcTo wR="9154" hR="9154" stAng="10800000" swAng="-5400000"/>
                  <a:lnTo>
                    <a:pt x="12446" y="30282"/>
                  </a:lnTo>
                  <a:arcTo wR="9154" hR="9154" stAng="5400000" swAng="-5400000"/>
                  <a:lnTo>
                    <a:pt x="21600" y="9154"/>
                  </a:lnTo>
                  <a:arcTo wR="9154" hR="9154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84920" y="5451480"/>
              <a:ext cx="234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7520" y="2227320"/>
              <a:ext cx="141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.withdraw(1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7880" y="4889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91560" y="4811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C Helvetica Condensed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51680" y="4889520"/>
              <a:ext cx="108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eposit(1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87520" y="3767040"/>
              <a:ext cx="141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.withdraw(2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88600" y="5359320"/>
              <a:ext cx="126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.deposit(2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0200" y="2058840"/>
              <a:ext cx="965160" cy="1070280"/>
            </a:xfrm>
            <a:prstGeom prst="rect">
              <a:avLst/>
            </a:pr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6120" y="2201760"/>
              <a:ext cx="5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57520" y="22543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57520" y="37418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56800" y="49165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92120" y="22795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04800" y="242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14080" y="36892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63480" y="3836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14080" y="4863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63480" y="5011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14080" y="54370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63480" y="5584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40880" y="26272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6800" y="541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0240" y="22669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33"/>
                  </a:moveTo>
                  <a:lnTo>
                    <a:pt x="0" y="0"/>
                  </a:lnTo>
                  <a:lnTo>
                    <a:pt x="66" y="17"/>
                  </a:lnTo>
                  <a:lnTo>
                    <a:pt x="16" y="6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35440" y="34686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7" y="16"/>
                  </a:moveTo>
                  <a:lnTo>
                    <a:pt x="33" y="0"/>
                  </a:lnTo>
                  <a:lnTo>
                    <a:pt x="66" y="65"/>
                  </a:lnTo>
                  <a:lnTo>
                    <a:pt x="0" y="49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35440" y="46418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17"/>
                  </a:moveTo>
                  <a:lnTo>
                    <a:pt x="66" y="0"/>
                  </a:lnTo>
                  <a:lnTo>
                    <a:pt x="66" y="66"/>
                  </a:lnTo>
                  <a:lnTo>
                    <a:pt x="0" y="33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10240" y="519120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16"/>
                  </a:moveTo>
                  <a:lnTo>
                    <a:pt x="66" y="0"/>
                  </a:lnTo>
                  <a:lnTo>
                    <a:pt x="66" y="65"/>
                  </a:lnTo>
                  <a:lnTo>
                    <a:pt x="0" y="3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80160" y="2266920"/>
              <a:ext cx="104760" cy="131760"/>
            </a:xfrm>
            <a:custGeom>
              <a:avLst/>
              <a:gdLst/>
              <a:ahLst/>
              <a:rect l="l" t="t" r="r" b="b"/>
              <a:pathLst>
                <a:path w="66" h="83">
                  <a:moveTo>
                    <a:pt x="0" y="33"/>
                  </a:moveTo>
                  <a:lnTo>
                    <a:pt x="0" y="0"/>
                  </a:lnTo>
                  <a:lnTo>
                    <a:pt x="66" y="33"/>
                  </a:lnTo>
                  <a:lnTo>
                    <a:pt x="0" y="8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88120" y="2319480"/>
              <a:ext cx="392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80160" y="37288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33"/>
                  </a:moveTo>
                  <a:lnTo>
                    <a:pt x="0" y="0"/>
                  </a:lnTo>
                  <a:lnTo>
                    <a:pt x="66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88120" y="3781440"/>
              <a:ext cx="392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80160" y="4956120"/>
              <a:ext cx="7776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0" y="33"/>
                  </a:moveTo>
                  <a:lnTo>
                    <a:pt x="0" y="0"/>
                  </a:lnTo>
                  <a:lnTo>
                    <a:pt x="49" y="33"/>
                  </a:lnTo>
                  <a:lnTo>
                    <a:pt x="0" y="6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62560" y="5008680"/>
              <a:ext cx="392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54600" y="5398920"/>
              <a:ext cx="103320" cy="1051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0" y="0"/>
                  </a:lnTo>
                  <a:lnTo>
                    <a:pt x="65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62560" y="5451480"/>
              <a:ext cx="392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08280" y="1836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93880" y="3244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96760" y="4498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0040" y="3338640"/>
              <a:ext cx="3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47880" y="3338640"/>
              <a:ext cx="1613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7360" y="36702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37800" y="359424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6840" y="36702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7120" y="390060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.withdraw(1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1600" y="5738760"/>
              <a:ext cx="1994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7360" y="418140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37800" y="4105440"/>
              <a:ext cx="6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C Helvetica Condensed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96840" y="4181400"/>
              <a:ext cx="199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57120" y="441180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.withdraw(2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7720" y="4718160"/>
              <a:ext cx="229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58200" y="4948200"/>
              <a:ext cx="130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.deposit(1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8080" y="5203800"/>
              <a:ext cx="235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58200" y="5432400"/>
              <a:ext cx="1321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.deposit(20)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stributed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76560" y="1371600"/>
            <a:ext cx="8998560" cy="4718880"/>
            <a:chOff x="376560" y="1371600"/>
            <a:chExt cx="8998560" cy="4718880"/>
          </a:xfrm>
        </p:grpSpPr>
        <p:sp>
          <p:nvSpPr>
            <p:cNvPr id="317" name=""/>
            <p:cNvSpPr/>
            <p:nvPr/>
          </p:nvSpPr>
          <p:spPr>
            <a:xfrm>
              <a:off x="2436840" y="2198520"/>
              <a:ext cx="1484280" cy="1652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33640" y="2897280"/>
              <a:ext cx="482760" cy="393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1720" y="1371600"/>
              <a:ext cx="243000" cy="33984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39840"/>
                <a:gd name="textAreaBottom" fmla="*/ 309600 h 339840"/>
              </a:gdLst>
              <a:ahLst/>
              <a:rect l="textAreaLeft" t="textAreaTop" r="textAreaRight" b="textAreaBottom"/>
              <a:pathLst>
                <a:path w="21600" h="30195">
                  <a:moveTo>
                    <a:pt x="9176" y="0"/>
                  </a:moveTo>
                  <a:arcTo wR="9176" hR="9176" stAng="16200000" swAng="-5400000"/>
                  <a:lnTo>
                    <a:pt x="0" y="21019"/>
                  </a:lnTo>
                  <a:arcTo wR="9176" hR="9176" stAng="10800000" swAng="-5400000"/>
                  <a:lnTo>
                    <a:pt x="12424" y="3019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41720" y="1371600"/>
              <a:ext cx="268200" cy="365040"/>
            </a:xfrm>
            <a:custGeom>
              <a:avLst/>
              <a:gdLst>
                <a:gd name="textAreaLeft" fmla="*/ 30240 w 268200"/>
                <a:gd name="textAreaRight" fmla="*/ 237960 w 268200"/>
                <a:gd name="textAreaTop" fmla="*/ 30240 h 365040"/>
                <a:gd name="textAreaBottom" fmla="*/ 334800 h 365040"/>
              </a:gdLst>
              <a:ahLst/>
              <a:rect l="textAreaLeft" t="textAreaTop" r="textAreaRight" b="textAreaBottom"/>
              <a:pathLst>
                <a:path w="21600" h="29389">
                  <a:moveTo>
                    <a:pt x="8308" y="0"/>
                  </a:moveTo>
                  <a:arcTo wR="8308" hR="8308" stAng="16200000" swAng="-5400000"/>
                  <a:lnTo>
                    <a:pt x="0" y="21081"/>
                  </a:lnTo>
                  <a:arcTo wR="8308" hR="8308" stAng="10800000" swAng="-5400000"/>
                  <a:lnTo>
                    <a:pt x="13292" y="29389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65480" y="1371600"/>
              <a:ext cx="219240" cy="1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65480" y="1371600"/>
              <a:ext cx="244440" cy="193680"/>
            </a:xfrm>
            <a:prstGeom prst="rect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41720" y="1371600"/>
              <a:ext cx="268200" cy="365040"/>
            </a:xfrm>
            <a:custGeom>
              <a:avLst/>
              <a:gdLst>
                <a:gd name="textAreaLeft" fmla="*/ 30240 w 268200"/>
                <a:gd name="textAreaRight" fmla="*/ 237960 w 268200"/>
                <a:gd name="textAreaTop" fmla="*/ 30240 h 365040"/>
                <a:gd name="textAreaBottom" fmla="*/ 334800 h 365040"/>
              </a:gdLst>
              <a:ahLst/>
              <a:rect l="textAreaLeft" t="textAreaTop" r="textAreaRight" b="textAreaBottom"/>
              <a:pathLst>
                <a:path w="21600" h="29389">
                  <a:moveTo>
                    <a:pt x="8308" y="0"/>
                  </a:moveTo>
                  <a:arcTo wR="8308" hR="8308" stAng="16200000" swAng="-5400000"/>
                  <a:lnTo>
                    <a:pt x="0" y="21081"/>
                  </a:lnTo>
                  <a:arcTo wR="8308" hR="8308" stAng="10800000" swAng="-5400000"/>
                  <a:lnTo>
                    <a:pt x="13292" y="29389"/>
                  </a:lnTo>
                  <a:arcTo wR="8308" hR="8308" stAng="5400000" swAng="-5400000"/>
                  <a:lnTo>
                    <a:pt x="21600" y="8308"/>
                  </a:lnTo>
                  <a:arcTo wR="8308" hR="8308" stAng="0" swAng="-5400000"/>
                  <a:close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720" y="1541520"/>
              <a:ext cx="2430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97640" y="3024360"/>
              <a:ext cx="1482840" cy="14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7640" y="4629240"/>
              <a:ext cx="1482840" cy="14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7640" y="1468440"/>
              <a:ext cx="1482840" cy="1409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94480" y="1809720"/>
              <a:ext cx="219240" cy="316080"/>
            </a:xfrm>
            <a:custGeom>
              <a:avLst/>
              <a:gdLst>
                <a:gd name="textAreaLeft" fmla="*/ 30240 w 219240"/>
                <a:gd name="textAreaRight" fmla="*/ 189000 w 219240"/>
                <a:gd name="textAreaTop" fmla="*/ 30240 h 316080"/>
                <a:gd name="textAreaBottom" fmla="*/ 285840 h 316080"/>
              </a:gdLst>
              <a:ahLst/>
              <a:rect l="textAreaLeft" t="textAreaTop" r="textAreaRight" b="textAreaBottom"/>
              <a:pathLst>
                <a:path w="21600" h="31125">
                  <a:moveTo>
                    <a:pt x="10174" y="0"/>
                  </a:moveTo>
                  <a:arcTo wR="10174" hR="10174" stAng="16200000" swAng="-5400000"/>
                  <a:lnTo>
                    <a:pt x="0" y="20951"/>
                  </a:lnTo>
                  <a:arcTo wR="10174" hR="10174" stAng="10800000" swAng="-5400000"/>
                  <a:lnTo>
                    <a:pt x="11426" y="31125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94480" y="1809720"/>
              <a:ext cx="243000" cy="33984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39840"/>
                <a:gd name="textAreaBottom" fmla="*/ 309600 h 339840"/>
              </a:gdLst>
              <a:ahLst/>
              <a:rect l="textAreaLeft" t="textAreaTop" r="textAreaRight" b="textAreaBottom"/>
              <a:pathLst>
                <a:path w="21600" h="30195">
                  <a:moveTo>
                    <a:pt x="9176" y="0"/>
                  </a:moveTo>
                  <a:arcTo wR="9176" hR="9176" stAng="16200000" swAng="-5400000"/>
                  <a:lnTo>
                    <a:pt x="0" y="21019"/>
                  </a:lnTo>
                  <a:arcTo wR="9176" hR="9176" stAng="10800000" swAng="-5400000"/>
                  <a:lnTo>
                    <a:pt x="12424" y="3019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94480" y="1979640"/>
              <a:ext cx="219240" cy="169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94480" y="1979640"/>
              <a:ext cx="243000" cy="19368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94480" y="1809720"/>
              <a:ext cx="243000" cy="33984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39840"/>
                <a:gd name="textAreaBottom" fmla="*/ 309600 h 339840"/>
              </a:gdLst>
              <a:ahLst/>
              <a:rect l="textAreaLeft" t="textAreaTop" r="textAreaRight" b="textAreaBottom"/>
              <a:pathLst>
                <a:path w="21600" h="30195">
                  <a:moveTo>
                    <a:pt x="9176" y="0"/>
                  </a:moveTo>
                  <a:arcTo wR="9176" hR="9176" stAng="16200000" swAng="-5400000"/>
                  <a:lnTo>
                    <a:pt x="0" y="21019"/>
                  </a:lnTo>
                  <a:arcTo wR="9176" hR="9176" stAng="10800000" swAng="-5400000"/>
                  <a:lnTo>
                    <a:pt x="12424" y="3019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94480" y="1979640"/>
              <a:ext cx="2192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18240" y="1857240"/>
              <a:ext cx="219240" cy="316080"/>
            </a:xfrm>
            <a:custGeom>
              <a:avLst/>
              <a:gdLst>
                <a:gd name="textAreaLeft" fmla="*/ 30240 w 219240"/>
                <a:gd name="textAreaRight" fmla="*/ 189000 w 219240"/>
                <a:gd name="textAreaTop" fmla="*/ 30240 h 316080"/>
                <a:gd name="textAreaBottom" fmla="*/ 285840 h 316080"/>
              </a:gdLst>
              <a:ahLst/>
              <a:rect l="textAreaLeft" t="textAreaTop" r="textAreaRight" b="textAreaBottom"/>
              <a:pathLst>
                <a:path w="21600" h="31125">
                  <a:moveTo>
                    <a:pt x="10174" y="0"/>
                  </a:moveTo>
                  <a:arcTo wR="10174" hR="10174" stAng="16200000" swAng="-5400000"/>
                  <a:lnTo>
                    <a:pt x="0" y="20951"/>
                  </a:lnTo>
                  <a:arcTo wR="10174" hR="10174" stAng="10800000" swAng="-5400000"/>
                  <a:lnTo>
                    <a:pt x="11426" y="31125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8240" y="1857240"/>
              <a:ext cx="243000" cy="34128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41280"/>
                <a:gd name="textAreaBottom" fmla="*/ 311040 h 341280"/>
              </a:gdLst>
              <a:ahLst/>
              <a:rect l="textAreaLeft" t="textAreaTop" r="textAreaRight" b="textAreaBottom"/>
              <a:pathLst>
                <a:path w="21600" h="30323">
                  <a:moveTo>
                    <a:pt x="9176" y="0"/>
                  </a:moveTo>
                  <a:arcTo wR="9176" hR="9176" stAng="16200000" swAng="-5400000"/>
                  <a:lnTo>
                    <a:pt x="0" y="21147"/>
                  </a:lnTo>
                  <a:arcTo wR="9176" hR="9176" stAng="10800000" swAng="-5400000"/>
                  <a:lnTo>
                    <a:pt x="12424" y="30323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18240" y="2027160"/>
              <a:ext cx="219240" cy="171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2027160"/>
              <a:ext cx="243000" cy="19548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18240" y="1857240"/>
              <a:ext cx="243000" cy="34128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41280"/>
                <a:gd name="textAreaBottom" fmla="*/ 311040 h 341280"/>
              </a:gdLst>
              <a:ahLst/>
              <a:rect l="textAreaLeft" t="textAreaTop" r="textAreaRight" b="textAreaBottom"/>
              <a:pathLst>
                <a:path w="21600" h="30323">
                  <a:moveTo>
                    <a:pt x="9176" y="0"/>
                  </a:moveTo>
                  <a:arcTo wR="9176" hR="9176" stAng="16200000" swAng="-5400000"/>
                  <a:lnTo>
                    <a:pt x="0" y="21147"/>
                  </a:lnTo>
                  <a:arcTo wR="9176" hR="9176" stAng="10800000" swAng="-5400000"/>
                  <a:lnTo>
                    <a:pt x="12424" y="30323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8240" y="2027160"/>
              <a:ext cx="2192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94480" y="3340080"/>
              <a:ext cx="219240" cy="317520"/>
            </a:xfrm>
            <a:custGeom>
              <a:avLst/>
              <a:gdLst>
                <a:gd name="textAreaLeft" fmla="*/ 30240 w 219240"/>
                <a:gd name="textAreaRight" fmla="*/ 189000 w 219240"/>
                <a:gd name="textAreaTop" fmla="*/ 30240 h 317520"/>
                <a:gd name="textAreaBottom" fmla="*/ 287280 h 317520"/>
              </a:gdLst>
              <a:ahLst/>
              <a:rect l="textAreaLeft" t="textAreaTop" r="textAreaRight" b="textAreaBottom"/>
              <a:pathLst>
                <a:path w="21600" h="31267">
                  <a:moveTo>
                    <a:pt x="10174" y="0"/>
                  </a:moveTo>
                  <a:arcTo wR="10174" hR="10174" stAng="16200000" swAng="-5400000"/>
                  <a:lnTo>
                    <a:pt x="0" y="21093"/>
                  </a:lnTo>
                  <a:arcTo wR="10174" hR="10174" stAng="10800000" swAng="-5400000"/>
                  <a:lnTo>
                    <a:pt x="11426" y="31267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94480" y="3340080"/>
              <a:ext cx="243000" cy="34128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41280"/>
                <a:gd name="textAreaBottom" fmla="*/ 311040 h 341280"/>
              </a:gdLst>
              <a:ahLst/>
              <a:rect l="textAreaLeft" t="textAreaTop" r="textAreaRight" b="textAreaBottom"/>
              <a:pathLst>
                <a:path w="21600" h="30323">
                  <a:moveTo>
                    <a:pt x="9176" y="0"/>
                  </a:moveTo>
                  <a:arcTo wR="9176" hR="9176" stAng="16200000" swAng="-5400000"/>
                  <a:lnTo>
                    <a:pt x="0" y="21147"/>
                  </a:lnTo>
                  <a:arcTo wR="9176" hR="9176" stAng="10800000" swAng="-5400000"/>
                  <a:lnTo>
                    <a:pt x="12424" y="30323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94480" y="3511440"/>
              <a:ext cx="21924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94480" y="3511440"/>
              <a:ext cx="243000" cy="1699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94480" y="3340080"/>
              <a:ext cx="243000" cy="34128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41280"/>
                <a:gd name="textAreaBottom" fmla="*/ 311040 h 341280"/>
              </a:gdLst>
              <a:ahLst/>
              <a:rect l="textAreaLeft" t="textAreaTop" r="textAreaRight" b="textAreaBottom"/>
              <a:pathLst>
                <a:path w="21600" h="30323">
                  <a:moveTo>
                    <a:pt x="9176" y="0"/>
                  </a:moveTo>
                  <a:arcTo wR="9176" hR="9176" stAng="16200000" swAng="-5400000"/>
                  <a:lnTo>
                    <a:pt x="0" y="21147"/>
                  </a:lnTo>
                  <a:arcTo wR="9176" hR="9176" stAng="10800000" swAng="-5400000"/>
                  <a:lnTo>
                    <a:pt x="12424" y="30323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94480" y="3486240"/>
              <a:ext cx="2192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43800" y="3535200"/>
              <a:ext cx="217440" cy="339840"/>
            </a:xfrm>
            <a:custGeom>
              <a:avLst/>
              <a:gdLst>
                <a:gd name="textAreaLeft" fmla="*/ 30240 w 217440"/>
                <a:gd name="textAreaRight" fmla="*/ 187200 w 217440"/>
                <a:gd name="textAreaTop" fmla="*/ 30240 h 339840"/>
                <a:gd name="textAreaBottom" fmla="*/ 309600 h 339840"/>
              </a:gdLst>
              <a:ahLst/>
              <a:rect l="textAreaLeft" t="textAreaTop" r="textAreaRight" b="textAreaBottom"/>
              <a:pathLst>
                <a:path w="21600" h="33739">
                  <a:moveTo>
                    <a:pt x="10248" y="0"/>
                  </a:moveTo>
                  <a:arcTo wR="10248" hR="10248" stAng="16200000" swAng="-5400000"/>
                  <a:lnTo>
                    <a:pt x="0" y="23491"/>
                  </a:lnTo>
                  <a:arcTo wR="10248" hR="10248" stAng="10800000" swAng="-5400000"/>
                  <a:lnTo>
                    <a:pt x="11352" y="33739"/>
                  </a:lnTo>
                  <a:arcTo wR="10248" hR="10248" stAng="5400000" swAng="-5400000"/>
                  <a:lnTo>
                    <a:pt x="21600" y="10248"/>
                  </a:lnTo>
                  <a:arcTo wR="10248" hR="1024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43800" y="3535200"/>
              <a:ext cx="243000" cy="36540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65400"/>
                <a:gd name="textAreaBottom" fmla="*/ 335160 h 365400"/>
              </a:gdLst>
              <a:ahLst/>
              <a:rect l="textAreaLeft" t="textAreaTop" r="textAreaRight" b="textAreaBottom"/>
              <a:pathLst>
                <a:path w="21600" h="32464">
                  <a:moveTo>
                    <a:pt x="9176" y="0"/>
                  </a:moveTo>
                  <a:arcTo wR="9176" hR="9176" stAng="16200000" swAng="-5400000"/>
                  <a:lnTo>
                    <a:pt x="0" y="23288"/>
                  </a:lnTo>
                  <a:arcTo wR="9176" hR="9176" stAng="10800000" swAng="-5400000"/>
                  <a:lnTo>
                    <a:pt x="12424" y="32464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43800" y="3728880"/>
              <a:ext cx="21744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43800" y="3728880"/>
              <a:ext cx="243000" cy="1717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43800" y="3535200"/>
              <a:ext cx="243000" cy="36540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65400"/>
                <a:gd name="textAreaBottom" fmla="*/ 335160 h 365400"/>
              </a:gdLst>
              <a:ahLst/>
              <a:rect l="textAreaLeft" t="textAreaTop" r="textAreaRight" b="textAreaBottom"/>
              <a:pathLst>
                <a:path w="21600" h="32464">
                  <a:moveTo>
                    <a:pt x="9176" y="0"/>
                  </a:moveTo>
                  <a:arcTo wR="9176" hR="9176" stAng="16200000" swAng="-5400000"/>
                  <a:lnTo>
                    <a:pt x="0" y="23288"/>
                  </a:lnTo>
                  <a:arcTo wR="9176" hR="9176" stAng="10800000" swAng="-5400000"/>
                  <a:lnTo>
                    <a:pt x="12424" y="32464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3705120"/>
              <a:ext cx="2174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94480" y="4871880"/>
              <a:ext cx="219240" cy="316080"/>
            </a:xfrm>
            <a:custGeom>
              <a:avLst/>
              <a:gdLst>
                <a:gd name="textAreaLeft" fmla="*/ 30240 w 219240"/>
                <a:gd name="textAreaRight" fmla="*/ 189000 w 219240"/>
                <a:gd name="textAreaTop" fmla="*/ 30240 h 316080"/>
                <a:gd name="textAreaBottom" fmla="*/ 285840 h 316080"/>
              </a:gdLst>
              <a:ahLst/>
              <a:rect l="textAreaLeft" t="textAreaTop" r="textAreaRight" b="textAreaBottom"/>
              <a:pathLst>
                <a:path w="21600" h="31125">
                  <a:moveTo>
                    <a:pt x="10174" y="0"/>
                  </a:moveTo>
                  <a:arcTo wR="10174" hR="10174" stAng="16200000" swAng="-5400000"/>
                  <a:lnTo>
                    <a:pt x="0" y="20951"/>
                  </a:lnTo>
                  <a:arcTo wR="10174" hR="10174" stAng="10800000" swAng="-5400000"/>
                  <a:lnTo>
                    <a:pt x="11426" y="31125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94480" y="4871880"/>
              <a:ext cx="243000" cy="34164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41640"/>
                <a:gd name="textAreaBottom" fmla="*/ 311400 h 341640"/>
              </a:gdLst>
              <a:ahLst/>
              <a:rect l="textAreaLeft" t="textAreaTop" r="textAreaRight" b="textAreaBottom"/>
              <a:pathLst>
                <a:path w="21600" h="30355">
                  <a:moveTo>
                    <a:pt x="9176" y="0"/>
                  </a:moveTo>
                  <a:arcTo wR="9176" hR="9176" stAng="16200000" swAng="-5400000"/>
                  <a:lnTo>
                    <a:pt x="0" y="21179"/>
                  </a:lnTo>
                  <a:arcTo wR="9176" hR="9176" stAng="10800000" swAng="-5400000"/>
                  <a:lnTo>
                    <a:pt x="12424" y="3035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94480" y="5041800"/>
              <a:ext cx="21924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94480" y="5041800"/>
              <a:ext cx="243000" cy="1717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94480" y="4871880"/>
              <a:ext cx="243000" cy="34164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41640"/>
                <a:gd name="textAreaBottom" fmla="*/ 311400 h 341640"/>
              </a:gdLst>
              <a:ahLst/>
              <a:rect l="textAreaLeft" t="textAreaTop" r="textAreaRight" b="textAreaBottom"/>
              <a:pathLst>
                <a:path w="21600" h="30355">
                  <a:moveTo>
                    <a:pt x="9176" y="0"/>
                  </a:moveTo>
                  <a:arcTo wR="9176" hR="9176" stAng="16200000" swAng="-5400000"/>
                  <a:lnTo>
                    <a:pt x="0" y="21179"/>
                  </a:lnTo>
                  <a:arcTo wR="9176" hR="9176" stAng="10800000" swAng="-5400000"/>
                  <a:lnTo>
                    <a:pt x="12424" y="30355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94480" y="5018040"/>
              <a:ext cx="2192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18240" y="4871880"/>
              <a:ext cx="219240" cy="341640"/>
            </a:xfrm>
            <a:custGeom>
              <a:avLst/>
              <a:gdLst>
                <a:gd name="textAreaLeft" fmla="*/ 30240 w 219240"/>
                <a:gd name="textAreaRight" fmla="*/ 189000 w 219240"/>
                <a:gd name="textAreaTop" fmla="*/ 30240 h 341640"/>
                <a:gd name="textAreaBottom" fmla="*/ 311400 h 341640"/>
              </a:gdLst>
              <a:ahLst/>
              <a:rect l="textAreaLeft" t="textAreaTop" r="textAreaRight" b="textAreaBottom"/>
              <a:pathLst>
                <a:path w="21600" h="33639">
                  <a:moveTo>
                    <a:pt x="10174" y="0"/>
                  </a:moveTo>
                  <a:arcTo wR="10174" hR="10174" stAng="16200000" swAng="-5400000"/>
                  <a:lnTo>
                    <a:pt x="0" y="23465"/>
                  </a:lnTo>
                  <a:arcTo wR="10174" hR="10174" stAng="10800000" swAng="-5400000"/>
                  <a:lnTo>
                    <a:pt x="11426" y="33639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18240" y="4871880"/>
              <a:ext cx="243000" cy="36540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65400"/>
                <a:gd name="textAreaBottom" fmla="*/ 335160 h 365400"/>
              </a:gdLst>
              <a:ahLst/>
              <a:rect l="textAreaLeft" t="textAreaTop" r="textAreaRight" b="textAreaBottom"/>
              <a:pathLst>
                <a:path w="21600" h="32464">
                  <a:moveTo>
                    <a:pt x="9176" y="0"/>
                  </a:moveTo>
                  <a:arcTo wR="9176" hR="9176" stAng="16200000" swAng="-5400000"/>
                  <a:lnTo>
                    <a:pt x="0" y="23288"/>
                  </a:lnTo>
                  <a:arcTo wR="9176" hR="9176" stAng="10800000" swAng="-5400000"/>
                  <a:lnTo>
                    <a:pt x="12424" y="32464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18240" y="5067360"/>
              <a:ext cx="21924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18240" y="5067360"/>
              <a:ext cx="243000" cy="1699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18240" y="4871880"/>
              <a:ext cx="243000" cy="36540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65400"/>
                <a:gd name="textAreaBottom" fmla="*/ 335160 h 365400"/>
              </a:gdLst>
              <a:ahLst/>
              <a:rect l="textAreaLeft" t="textAreaTop" r="textAreaRight" b="textAreaBottom"/>
              <a:pathLst>
                <a:path w="21600" h="32464">
                  <a:moveTo>
                    <a:pt x="9176" y="0"/>
                  </a:moveTo>
                  <a:arcTo wR="9176" hR="9176" stAng="16200000" swAng="-5400000"/>
                  <a:lnTo>
                    <a:pt x="0" y="23288"/>
                  </a:lnTo>
                  <a:arcTo wR="9176" hR="9176" stAng="10800000" swAng="-5400000"/>
                  <a:lnTo>
                    <a:pt x="12424" y="32464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18240" y="5041800"/>
              <a:ext cx="2192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94480" y="5359320"/>
              <a:ext cx="219240" cy="339840"/>
            </a:xfrm>
            <a:custGeom>
              <a:avLst/>
              <a:gdLst>
                <a:gd name="textAreaLeft" fmla="*/ 30240 w 219240"/>
                <a:gd name="textAreaRight" fmla="*/ 189000 w 219240"/>
                <a:gd name="textAreaTop" fmla="*/ 30240 h 339840"/>
                <a:gd name="textAreaBottom" fmla="*/ 309600 h 339840"/>
              </a:gdLst>
              <a:ahLst/>
              <a:rect l="textAreaLeft" t="textAreaTop" r="textAreaRight" b="textAreaBottom"/>
              <a:pathLst>
                <a:path w="21600" h="33462">
                  <a:moveTo>
                    <a:pt x="10174" y="0"/>
                  </a:moveTo>
                  <a:arcTo wR="10174" hR="10174" stAng="16200000" swAng="-5400000"/>
                  <a:lnTo>
                    <a:pt x="0" y="23288"/>
                  </a:lnTo>
                  <a:arcTo wR="10174" hR="10174" stAng="10800000" swAng="-5400000"/>
                  <a:lnTo>
                    <a:pt x="11426" y="33462"/>
                  </a:lnTo>
                  <a:arcTo wR="10174" hR="10174" stAng="5400000" swAng="-5400000"/>
                  <a:lnTo>
                    <a:pt x="21600" y="10174"/>
                  </a:lnTo>
                  <a:arcTo wR="10174" hR="10174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94480" y="5359320"/>
              <a:ext cx="243000" cy="36360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63600"/>
                <a:gd name="textAreaBottom" fmla="*/ 333360 h 363600"/>
              </a:gdLst>
              <a:ahLst/>
              <a:rect l="textAreaLeft" t="textAreaTop" r="textAreaRight" b="textAreaBottom"/>
              <a:pathLst>
                <a:path w="21600" h="32304">
                  <a:moveTo>
                    <a:pt x="9176" y="0"/>
                  </a:moveTo>
                  <a:arcTo wR="9176" hR="9176" stAng="16200000" swAng="-5400000"/>
                  <a:lnTo>
                    <a:pt x="0" y="23128"/>
                  </a:lnTo>
                  <a:arcTo wR="9176" hR="9176" stAng="10800000" swAng="-5400000"/>
                  <a:lnTo>
                    <a:pt x="12424" y="32304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18240" y="5553000"/>
              <a:ext cx="195480" cy="146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18240" y="5553000"/>
              <a:ext cx="219240" cy="1699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94480" y="5359320"/>
              <a:ext cx="243000" cy="363600"/>
            </a:xfrm>
            <a:custGeom>
              <a:avLst/>
              <a:gdLst>
                <a:gd name="textAreaLeft" fmla="*/ 30240 w 243000"/>
                <a:gd name="textAreaRight" fmla="*/ 212760 w 243000"/>
                <a:gd name="textAreaTop" fmla="*/ 30240 h 363600"/>
                <a:gd name="textAreaBottom" fmla="*/ 333360 h 363600"/>
              </a:gdLst>
              <a:ahLst/>
              <a:rect l="textAreaLeft" t="textAreaTop" r="textAreaRight" b="textAreaBottom"/>
              <a:pathLst>
                <a:path w="21600" h="32304">
                  <a:moveTo>
                    <a:pt x="9176" y="0"/>
                  </a:moveTo>
                  <a:arcTo wR="9176" hR="9176" stAng="16200000" swAng="-5400000"/>
                  <a:lnTo>
                    <a:pt x="0" y="23128"/>
                  </a:lnTo>
                  <a:arcTo wR="9176" hR="9176" stAng="10800000" swAng="-5400000"/>
                  <a:lnTo>
                    <a:pt x="12424" y="32304"/>
                  </a:lnTo>
                  <a:arcTo wR="9176" hR="9176" stAng="5400000" swAng="-5400000"/>
                  <a:lnTo>
                    <a:pt x="21600" y="9176"/>
                  </a:lnTo>
                  <a:arcTo wR="9176" hR="9176" stAng="0" swAng="-5400000"/>
                  <a:close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94480" y="5529240"/>
              <a:ext cx="2192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10280" y="2112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10280" y="2112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8160" y="583236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33320" y="262260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66760" y="311004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28600" y="46656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54640" y="510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54640" y="5467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00640" y="36194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33320" y="420372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anc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54280" y="3668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54280" y="1990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19240" y="157788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84720" y="149400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30"/>
                  </a:moveTo>
                  <a:lnTo>
                    <a:pt x="46" y="61"/>
                  </a:lnTo>
                  <a:lnTo>
                    <a:pt x="0" y="15"/>
                  </a:lnTo>
                  <a:lnTo>
                    <a:pt x="6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382640" y="1541520"/>
              <a:ext cx="2211480" cy="4125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4720" y="166356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46" y="30"/>
                  </a:moveTo>
                  <a:lnTo>
                    <a:pt x="16" y="61"/>
                  </a:lnTo>
                  <a:lnTo>
                    <a:pt x="0" y="0"/>
                  </a:lnTo>
                  <a:lnTo>
                    <a:pt x="62" y="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4357440" y="1711440"/>
              <a:ext cx="2236680" cy="1800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87880" y="171144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46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61" y="31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4237200" y="1784520"/>
              <a:ext cx="2333520" cy="32335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24320" y="150480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9920" y="232416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8360" y="4300560"/>
              <a:ext cx="54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o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24080" y="2987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63400" y="1990800"/>
              <a:ext cx="161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.withdraw(4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14880" y="5005440"/>
              <a:ext cx="145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c.deposit(4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63400" y="3668760"/>
              <a:ext cx="161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.withdraw(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45040" y="5491080"/>
              <a:ext cx="146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d.deposit(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79840" y="3267000"/>
              <a:ext cx="120600" cy="9864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15" y="31"/>
                  </a:moveTo>
                  <a:lnTo>
                    <a:pt x="15" y="0"/>
                  </a:lnTo>
                  <a:lnTo>
                    <a:pt x="76" y="46"/>
                  </a:lnTo>
                  <a:lnTo>
                    <a:pt x="0" y="6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59240" y="3073320"/>
              <a:ext cx="1020600" cy="243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44880" y="156528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0" y="46"/>
                  </a:moveTo>
                  <a:lnTo>
                    <a:pt x="0" y="16"/>
                  </a:lnTo>
                  <a:lnTo>
                    <a:pt x="61" y="0"/>
                  </a:lnTo>
                  <a:lnTo>
                    <a:pt x="46" y="62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166920" y="1638360"/>
              <a:ext cx="801720" cy="11923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55320" y="152388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51120" y="3473280"/>
              <a:ext cx="184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.withdraw(T, 3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1280" y="1728720"/>
              <a:ext cx="171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7480" y="4114800"/>
              <a:ext cx="33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57240" y="4114800"/>
              <a:ext cx="142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Arial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1920" y="4352760"/>
              <a:ext cx="152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a.withdraw(4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0480" y="4613400"/>
              <a:ext cx="137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c.deposit(4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920" y="4826160"/>
              <a:ext cx="152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b.withdraw(3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0840" y="504036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d.deposit(3)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680" y="5276880"/>
              <a:ext cx="177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Arial"/>
                </a:rPr>
                <a:t>close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560" y="5630760"/>
              <a:ext cx="55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te: the coordinator is in one of the servers, e.g. Branch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for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3480" y="1353960"/>
            <a:ext cx="844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?(trans)-&gt; Yes /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ask whether it can commit a transaction. Participant replies with its vo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(trans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tell participant to commit its part of a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(trans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coordinator to participant to tell participant to abort its part of a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aveCommitted(trans, participan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participant to coordinator to confirm that it has committed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tDecision(trans) -&gt; Yes /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ll from participant to coordinator to ask for the decision on a transaction after it has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ut has still had no reply after some delay. Used to recover from server crash or delayed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600" y="1322280"/>
            <a:ext cx="8718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hase 1 (voting phase)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ordinator send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 request to each of the participants in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a participant receive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an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? request it replies with its vote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to the coordinator. Before vot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it prepares to commit by saving objects in permanent storage. If the vote i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participant aborts immediat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hase 2 (completion according to outcome of vot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ordinator collects the votes (including its ow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6480" indent="-369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there are no failures and all the votes ar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he coordinator decides to commit the transaction and send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 to each of the particip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06480" indent="-369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wise the coordinator decides to abort the transaction and send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s to all participants that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490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.  Participants that vo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re waiting for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oAbor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quest from the coordinator. When a participant receives one of these messages it acts accordingly and in the case of commit, makes a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aveCommit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call as confirmation to the coordin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unication in two-phase commit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76360" y="2360520"/>
            <a:ext cx="8540640" cy="2590920"/>
            <a:chOff x="576360" y="2360520"/>
            <a:chExt cx="8540640" cy="2590920"/>
          </a:xfrm>
        </p:grpSpPr>
        <p:sp>
          <p:nvSpPr>
            <p:cNvPr id="418" name=""/>
            <p:cNvSpPr/>
            <p:nvPr/>
          </p:nvSpPr>
          <p:spPr>
            <a:xfrm>
              <a:off x="588960" y="2373480"/>
              <a:ext cx="2898720" cy="25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6360" y="2360520"/>
              <a:ext cx="2919240" cy="259092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2480" y="2505240"/>
              <a:ext cx="2392200" cy="22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52480" y="2505240"/>
              <a:ext cx="2414520" cy="23047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10360" y="2373480"/>
              <a:ext cx="2897280" cy="2568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97760" y="2360520"/>
              <a:ext cx="2919240" cy="259092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18480" y="327492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canComm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7640" y="364320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6640" y="3973680"/>
              <a:ext cx="81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do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7440" y="429912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have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89320" y="4635360"/>
              <a:ext cx="109440" cy="6516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9" y="13"/>
                  </a:moveTo>
                  <a:lnTo>
                    <a:pt x="69" y="41"/>
                  </a:lnTo>
                  <a:lnTo>
                    <a:pt x="0" y="27"/>
                  </a:lnTo>
                  <a:lnTo>
                    <a:pt x="69" y="0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398400" y="4437000"/>
              <a:ext cx="3249720" cy="219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9320" y="3932280"/>
              <a:ext cx="109440" cy="6516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69" y="28"/>
                  </a:moveTo>
                  <a:lnTo>
                    <a:pt x="69" y="41"/>
                  </a:lnTo>
                  <a:lnTo>
                    <a:pt x="0" y="28"/>
                  </a:lnTo>
                  <a:lnTo>
                    <a:pt x="69" y="0"/>
                  </a:lnTo>
                  <a:lnTo>
                    <a:pt x="69" y="28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3398400" y="3733920"/>
              <a:ext cx="3249720" cy="242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5520" y="3646440"/>
              <a:ext cx="109440" cy="6660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14"/>
                  </a:moveTo>
                  <a:lnTo>
                    <a:pt x="14" y="0"/>
                  </a:lnTo>
                  <a:lnTo>
                    <a:pt x="69" y="28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82960" y="3449520"/>
              <a:ext cx="3292560" cy="219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75520" y="4282920"/>
              <a:ext cx="109440" cy="66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28"/>
                  </a:moveTo>
                  <a:lnTo>
                    <a:pt x="14" y="0"/>
                  </a:lnTo>
                  <a:lnTo>
                    <a:pt x="69" y="28"/>
                  </a:lnTo>
                  <a:lnTo>
                    <a:pt x="0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82960" y="4108320"/>
              <a:ext cx="3292560" cy="219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25560" y="266868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66240" y="3414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66240" y="4030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82400" y="3656160"/>
              <a:ext cx="141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waiting for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86360" y="403056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87440" y="457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82760" y="3392640"/>
              <a:ext cx="153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pared to 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04320" y="3051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52480" y="3273480"/>
              <a:ext cx="23922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29240" y="2505240"/>
              <a:ext cx="2392560" cy="22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29240" y="2505240"/>
              <a:ext cx="2414880" cy="23047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32920" y="26686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3000" y="36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43000" y="4314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28640" y="396396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uncerta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26480" y="3700440"/>
              <a:ext cx="153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repared to 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29720" y="4314960"/>
              <a:ext cx="82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29720" y="3051000"/>
              <a:ext cx="47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03400" y="305100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51560" y="3295800"/>
              <a:ext cx="23655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86360" y="3051000"/>
              <a:ext cx="47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3.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Operations in coordinator for 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5480" y="2016000"/>
            <a:ext cx="858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enSubTransaction(trans) -&gt; subTr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s a new subtransaction whose parent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returns a unique subtransaction ident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tStatus(trans)-&gt; committed, aborted, provi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s the coordinator to report on the status of the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Returns values representing one of the following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ovis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3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ecides whether to commi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83920" y="1631880"/>
            <a:ext cx="8714160" cy="3200400"/>
            <a:chOff x="583920" y="1631880"/>
            <a:chExt cx="8714160" cy="3200400"/>
          </a:xfrm>
        </p:grpSpPr>
        <p:sp>
          <p:nvSpPr>
            <p:cNvPr id="461" name=""/>
            <p:cNvSpPr/>
            <p:nvPr/>
          </p:nvSpPr>
          <p:spPr>
            <a:xfrm>
              <a:off x="3065040" y="2286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92720" y="4330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08320" y="16318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52320" y="18223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08320" y="29512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52320" y="3141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906480" y="2317320"/>
              <a:ext cx="2006640" cy="7174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6480" y="3178080"/>
              <a:ext cx="1461960" cy="10620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343320" y="1773000"/>
              <a:ext cx="2465280" cy="4870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43320" y="2376360"/>
              <a:ext cx="2495520" cy="7160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08320" y="44132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2320" y="46036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08320" y="35812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52320" y="37450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827440" y="3723840"/>
              <a:ext cx="3011400" cy="544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27440" y="4383000"/>
              <a:ext cx="2981160" cy="2001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55680" y="1631880"/>
              <a:ext cx="1248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bort (at M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30480" y="2951280"/>
              <a:ext cx="2667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N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69560" y="2165400"/>
              <a:ext cx="2653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X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79920" y="4097160"/>
              <a:ext cx="147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borted (at Y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73240" y="3552840"/>
              <a:ext cx="2667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N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44440" y="4413240"/>
              <a:ext cx="2653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visional commit (at P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37960" y="21528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06240" y="4138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3920" y="29224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0-11-26T15:27:55Z</dcterms:modified>
  <cp:revision>80</cp:revision>
  <dc:subject/>
  <dc:title>Figure 15.1 A distributed multimedia system</dc:title>
</cp:coreProperties>
</file>